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67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68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</p:sldMasterIdLst>
  <p:sldIdLst>
    <p:sldId id="256" r:id="rId86"/>
    <p:sldId id="257" r:id="rId87"/>
    <p:sldId id="258" r:id="rId88"/>
    <p:sldId id="259" r:id="rId89"/>
    <p:sldId id="260" r:id="rId90"/>
    <p:sldId id="261" r:id="rId91"/>
    <p:sldId id="262" r:id="rId92"/>
    <p:sldId id="263" r:id="rId93"/>
    <p:sldId id="264" r:id="rId94"/>
    <p:sldId id="265" r:id="rId95"/>
    <p:sldId id="266" r:id="rId96"/>
    <p:sldId id="267" r:id="rId97"/>
    <p:sldId id="268" r:id="rId98"/>
    <p:sldId id="269" r:id="rId99"/>
    <p:sldId id="270" r:id="rId100"/>
    <p:sldId id="271" r:id="rId101"/>
    <p:sldId id="272" r:id="rId102"/>
    <p:sldId id="273" r:id="rId103"/>
    <p:sldId id="274" r:id="rId104"/>
    <p:sldId id="275" r:id="rId105"/>
    <p:sldId id="276" r:id="rId106"/>
    <p:sldId id="277" r:id="rId107"/>
    <p:sldId id="278" r:id="rId108"/>
    <p:sldId id="279" r:id="rId109"/>
    <p:sldId id="280" r:id="rId110"/>
    <p:sldId id="281" r:id="rId111"/>
    <p:sldId id="282" r:id="rId112"/>
    <p:sldId id="283" r:id="rId113"/>
    <p:sldId id="284" r:id="rId114"/>
    <p:sldId id="285" r:id="rId115"/>
    <p:sldId id="286" r:id="rId116"/>
    <p:sldId id="287" r:id="rId117"/>
    <p:sldId id="288" r:id="rId118"/>
    <p:sldId id="289" r:id="rId119"/>
    <p:sldId id="290" r:id="rId120"/>
    <p:sldId id="291" r:id="rId121"/>
    <p:sldId id="292" r:id="rId122"/>
    <p:sldId id="293" r:id="rId123"/>
    <p:sldId id="294" r:id="rId124"/>
    <p:sldId id="295" r:id="rId125"/>
    <p:sldId id="296" r:id="rId126"/>
    <p:sldId id="297" r:id="rId127"/>
    <p:sldId id="298" r:id="rId128"/>
    <p:sldId id="299" r:id="rId129"/>
    <p:sldId id="300" r:id="rId130"/>
    <p:sldId id="301" r:id="rId131"/>
    <p:sldId id="302" r:id="rId132"/>
    <p:sldId id="303" r:id="rId133"/>
    <p:sldId id="304" r:id="rId134"/>
    <p:sldId id="305" r:id="rId135"/>
    <p:sldId id="306" r:id="rId136"/>
    <p:sldId id="307" r:id="rId137"/>
    <p:sldId id="308" r:id="rId138"/>
    <p:sldId id="309" r:id="rId139"/>
    <p:sldId id="310" r:id="rId140"/>
    <p:sldId id="311" r:id="rId141"/>
    <p:sldId id="312" r:id="rId142"/>
    <p:sldId id="313" r:id="rId143"/>
    <p:sldId id="314" r:id="rId144"/>
    <p:sldId id="315" r:id="rId145"/>
    <p:sldId id="316" r:id="rId146"/>
    <p:sldId id="317" r:id="rId147"/>
    <p:sldId id="318" r:id="rId148"/>
    <p:sldId id="319" r:id="rId149"/>
    <p:sldId id="320" r:id="rId150"/>
    <p:sldId id="321" r:id="rId151"/>
    <p:sldId id="322" r:id="rId152"/>
    <p:sldId id="323" r:id="rId153"/>
    <p:sldId id="324" r:id="rId154"/>
    <p:sldId id="325" r:id="rId155"/>
    <p:sldId id="326" r:id="rId156"/>
    <p:sldId id="327" r:id="rId157"/>
    <p:sldId id="328" r:id="rId158"/>
    <p:sldId id="329" r:id="rId159"/>
    <p:sldId id="330" r:id="rId160"/>
    <p:sldId id="331" r:id="rId161"/>
    <p:sldId id="332" r:id="rId162"/>
    <p:sldId id="333" r:id="rId163"/>
    <p:sldId id="334" r:id="rId164"/>
    <p:sldId id="335" r:id="rId165"/>
    <p:sldId id="336" r:id="rId166"/>
    <p:sldId id="337" r:id="rId167"/>
    <p:sldId id="338" r:id="rId168"/>
    <p:sldId id="339" r:id="rId169"/>
    <p:sldId id="340" r:id="rId170"/>
    <p:sldId id="341" r:id="rId171"/>
    <p:sldId id="342" r:id="rId172"/>
    <p:sldId id="343" r:id="rId173"/>
    <p:sldId id="344" r:id="rId174"/>
    <p:sldId id="345" r:id="rId175"/>
    <p:sldId id="346" r:id="rId176"/>
    <p:sldId id="347" r:id="rId1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" Target="slides/slide1.xml"/><Relationship Id="rId87" Type="http://schemas.openxmlformats.org/officeDocument/2006/relationships/slide" Target="slides/slide2.xml"/><Relationship Id="rId88" Type="http://schemas.openxmlformats.org/officeDocument/2006/relationships/slide" Target="slides/slide3.xml"/><Relationship Id="rId89" Type="http://schemas.openxmlformats.org/officeDocument/2006/relationships/slide" Target="slides/slide4.xml"/><Relationship Id="rId90" Type="http://schemas.openxmlformats.org/officeDocument/2006/relationships/slide" Target="slides/slide5.xml"/><Relationship Id="rId91" Type="http://schemas.openxmlformats.org/officeDocument/2006/relationships/slide" Target="slides/slide6.xml"/><Relationship Id="rId92" Type="http://schemas.openxmlformats.org/officeDocument/2006/relationships/slide" Target="slides/slide7.xml"/><Relationship Id="rId93" Type="http://schemas.openxmlformats.org/officeDocument/2006/relationships/slide" Target="slides/slide8.xml"/><Relationship Id="rId94" Type="http://schemas.openxmlformats.org/officeDocument/2006/relationships/slide" Target="slides/slide9.xml"/><Relationship Id="rId95" Type="http://schemas.openxmlformats.org/officeDocument/2006/relationships/slide" Target="slides/slide10.xml"/><Relationship Id="rId96" Type="http://schemas.openxmlformats.org/officeDocument/2006/relationships/slide" Target="slides/slide11.xml"/><Relationship Id="rId97" Type="http://schemas.openxmlformats.org/officeDocument/2006/relationships/slide" Target="slides/slide12.xml"/><Relationship Id="rId98" Type="http://schemas.openxmlformats.org/officeDocument/2006/relationships/slide" Target="slides/slide13.xml"/><Relationship Id="rId99" Type="http://schemas.openxmlformats.org/officeDocument/2006/relationships/slide" Target="slides/slide14.xml"/><Relationship Id="rId100" Type="http://schemas.openxmlformats.org/officeDocument/2006/relationships/slide" Target="slides/slide15.xml"/><Relationship Id="rId101" Type="http://schemas.openxmlformats.org/officeDocument/2006/relationships/slide" Target="slides/slide16.xml"/><Relationship Id="rId102" Type="http://schemas.openxmlformats.org/officeDocument/2006/relationships/slide" Target="slides/slide17.xml"/><Relationship Id="rId103" Type="http://schemas.openxmlformats.org/officeDocument/2006/relationships/slide" Target="slides/slide18.xml"/><Relationship Id="rId104" Type="http://schemas.openxmlformats.org/officeDocument/2006/relationships/slide" Target="slides/slide19.xml"/><Relationship Id="rId105" Type="http://schemas.openxmlformats.org/officeDocument/2006/relationships/slide" Target="slides/slide20.xml"/><Relationship Id="rId106" Type="http://schemas.openxmlformats.org/officeDocument/2006/relationships/slide" Target="slides/slide21.xml"/><Relationship Id="rId107" Type="http://schemas.openxmlformats.org/officeDocument/2006/relationships/slide" Target="slides/slide22.xml"/><Relationship Id="rId108" Type="http://schemas.openxmlformats.org/officeDocument/2006/relationships/slide" Target="slides/slide23.xml"/><Relationship Id="rId109" Type="http://schemas.openxmlformats.org/officeDocument/2006/relationships/slide" Target="slides/slide24.xml"/><Relationship Id="rId110" Type="http://schemas.openxmlformats.org/officeDocument/2006/relationships/slide" Target="slides/slide25.xml"/><Relationship Id="rId111" Type="http://schemas.openxmlformats.org/officeDocument/2006/relationships/slide" Target="slides/slide26.xml"/><Relationship Id="rId112" Type="http://schemas.openxmlformats.org/officeDocument/2006/relationships/slide" Target="slides/slide27.xml"/><Relationship Id="rId113" Type="http://schemas.openxmlformats.org/officeDocument/2006/relationships/slide" Target="slides/slide28.xml"/><Relationship Id="rId114" Type="http://schemas.openxmlformats.org/officeDocument/2006/relationships/slide" Target="slides/slide29.xml"/><Relationship Id="rId115" Type="http://schemas.openxmlformats.org/officeDocument/2006/relationships/slide" Target="slides/slide30.xml"/><Relationship Id="rId116" Type="http://schemas.openxmlformats.org/officeDocument/2006/relationships/slide" Target="slides/slide31.xml"/><Relationship Id="rId117" Type="http://schemas.openxmlformats.org/officeDocument/2006/relationships/slide" Target="slides/slide32.xml"/><Relationship Id="rId118" Type="http://schemas.openxmlformats.org/officeDocument/2006/relationships/slide" Target="slides/slide33.xml"/><Relationship Id="rId119" Type="http://schemas.openxmlformats.org/officeDocument/2006/relationships/slide" Target="slides/slide34.xml"/><Relationship Id="rId120" Type="http://schemas.openxmlformats.org/officeDocument/2006/relationships/slide" Target="slides/slide35.xml"/><Relationship Id="rId121" Type="http://schemas.openxmlformats.org/officeDocument/2006/relationships/slide" Target="slides/slide36.xml"/><Relationship Id="rId122" Type="http://schemas.openxmlformats.org/officeDocument/2006/relationships/slide" Target="slides/slide37.xml"/><Relationship Id="rId123" Type="http://schemas.openxmlformats.org/officeDocument/2006/relationships/slide" Target="slides/slide38.xml"/><Relationship Id="rId124" Type="http://schemas.openxmlformats.org/officeDocument/2006/relationships/slide" Target="slides/slide39.xml"/><Relationship Id="rId125" Type="http://schemas.openxmlformats.org/officeDocument/2006/relationships/slide" Target="slides/slide40.xml"/><Relationship Id="rId126" Type="http://schemas.openxmlformats.org/officeDocument/2006/relationships/slide" Target="slides/slide41.xml"/><Relationship Id="rId127" Type="http://schemas.openxmlformats.org/officeDocument/2006/relationships/slide" Target="slides/slide42.xml"/><Relationship Id="rId128" Type="http://schemas.openxmlformats.org/officeDocument/2006/relationships/slide" Target="slides/slide43.xml"/><Relationship Id="rId129" Type="http://schemas.openxmlformats.org/officeDocument/2006/relationships/slide" Target="slides/slide44.xml"/><Relationship Id="rId130" Type="http://schemas.openxmlformats.org/officeDocument/2006/relationships/slide" Target="slides/slide45.xml"/><Relationship Id="rId131" Type="http://schemas.openxmlformats.org/officeDocument/2006/relationships/slide" Target="slides/slide46.xml"/><Relationship Id="rId132" Type="http://schemas.openxmlformats.org/officeDocument/2006/relationships/slide" Target="slides/slide47.xml"/><Relationship Id="rId133" Type="http://schemas.openxmlformats.org/officeDocument/2006/relationships/slide" Target="slides/slide48.xml"/><Relationship Id="rId134" Type="http://schemas.openxmlformats.org/officeDocument/2006/relationships/slide" Target="slides/slide49.xml"/><Relationship Id="rId135" Type="http://schemas.openxmlformats.org/officeDocument/2006/relationships/slide" Target="slides/slide50.xml"/><Relationship Id="rId136" Type="http://schemas.openxmlformats.org/officeDocument/2006/relationships/slide" Target="slides/slide51.xml"/><Relationship Id="rId137" Type="http://schemas.openxmlformats.org/officeDocument/2006/relationships/slide" Target="slides/slide52.xml"/><Relationship Id="rId138" Type="http://schemas.openxmlformats.org/officeDocument/2006/relationships/slide" Target="slides/slide53.xml"/><Relationship Id="rId139" Type="http://schemas.openxmlformats.org/officeDocument/2006/relationships/slide" Target="slides/slide54.xml"/><Relationship Id="rId140" Type="http://schemas.openxmlformats.org/officeDocument/2006/relationships/slide" Target="slides/slide55.xml"/><Relationship Id="rId141" Type="http://schemas.openxmlformats.org/officeDocument/2006/relationships/slide" Target="slides/slide56.xml"/><Relationship Id="rId142" Type="http://schemas.openxmlformats.org/officeDocument/2006/relationships/slide" Target="slides/slide57.xml"/><Relationship Id="rId143" Type="http://schemas.openxmlformats.org/officeDocument/2006/relationships/slide" Target="slides/slide58.xml"/><Relationship Id="rId144" Type="http://schemas.openxmlformats.org/officeDocument/2006/relationships/slide" Target="slides/slide59.xml"/><Relationship Id="rId145" Type="http://schemas.openxmlformats.org/officeDocument/2006/relationships/slide" Target="slides/slide60.xml"/><Relationship Id="rId146" Type="http://schemas.openxmlformats.org/officeDocument/2006/relationships/slide" Target="slides/slide61.xml"/><Relationship Id="rId147" Type="http://schemas.openxmlformats.org/officeDocument/2006/relationships/slide" Target="slides/slide62.xml"/><Relationship Id="rId148" Type="http://schemas.openxmlformats.org/officeDocument/2006/relationships/slide" Target="slides/slide63.xml"/><Relationship Id="rId149" Type="http://schemas.openxmlformats.org/officeDocument/2006/relationships/slide" Target="slides/slide64.xml"/><Relationship Id="rId150" Type="http://schemas.openxmlformats.org/officeDocument/2006/relationships/slide" Target="slides/slide65.xml"/><Relationship Id="rId151" Type="http://schemas.openxmlformats.org/officeDocument/2006/relationships/slide" Target="slides/slide66.xml"/><Relationship Id="rId152" Type="http://schemas.openxmlformats.org/officeDocument/2006/relationships/slide" Target="slides/slide67.xml"/><Relationship Id="rId153" Type="http://schemas.openxmlformats.org/officeDocument/2006/relationships/slide" Target="slides/slide68.xml"/><Relationship Id="rId154" Type="http://schemas.openxmlformats.org/officeDocument/2006/relationships/slide" Target="slides/slide69.xml"/><Relationship Id="rId155" Type="http://schemas.openxmlformats.org/officeDocument/2006/relationships/slide" Target="slides/slide70.xml"/><Relationship Id="rId156" Type="http://schemas.openxmlformats.org/officeDocument/2006/relationships/slide" Target="slides/slide71.xml"/><Relationship Id="rId157" Type="http://schemas.openxmlformats.org/officeDocument/2006/relationships/slide" Target="slides/slide72.xml"/><Relationship Id="rId158" Type="http://schemas.openxmlformats.org/officeDocument/2006/relationships/slide" Target="slides/slide73.xml"/><Relationship Id="rId159" Type="http://schemas.openxmlformats.org/officeDocument/2006/relationships/slide" Target="slides/slide74.xml"/><Relationship Id="rId160" Type="http://schemas.openxmlformats.org/officeDocument/2006/relationships/slide" Target="slides/slide75.xml"/><Relationship Id="rId161" Type="http://schemas.openxmlformats.org/officeDocument/2006/relationships/slide" Target="slides/slide76.xml"/><Relationship Id="rId162" Type="http://schemas.openxmlformats.org/officeDocument/2006/relationships/slide" Target="slides/slide77.xml"/><Relationship Id="rId163" Type="http://schemas.openxmlformats.org/officeDocument/2006/relationships/slide" Target="slides/slide78.xml"/><Relationship Id="rId164" Type="http://schemas.openxmlformats.org/officeDocument/2006/relationships/slide" Target="slides/slide79.xml"/><Relationship Id="rId165" Type="http://schemas.openxmlformats.org/officeDocument/2006/relationships/slide" Target="slides/slide80.xml"/><Relationship Id="rId166" Type="http://schemas.openxmlformats.org/officeDocument/2006/relationships/slide" Target="slides/slide81.xml"/><Relationship Id="rId167" Type="http://schemas.openxmlformats.org/officeDocument/2006/relationships/slide" Target="slides/slide82.xml"/><Relationship Id="rId168" Type="http://schemas.openxmlformats.org/officeDocument/2006/relationships/slide" Target="slides/slide83.xml"/><Relationship Id="rId169" Type="http://schemas.openxmlformats.org/officeDocument/2006/relationships/slide" Target="slides/slide84.xml"/><Relationship Id="rId170" Type="http://schemas.openxmlformats.org/officeDocument/2006/relationships/slide" Target="slides/slide85.xml"/><Relationship Id="rId171" Type="http://schemas.openxmlformats.org/officeDocument/2006/relationships/slide" Target="slides/slide86.xml"/><Relationship Id="rId172" Type="http://schemas.openxmlformats.org/officeDocument/2006/relationships/slide" Target="slides/slide87.xml"/><Relationship Id="rId173" Type="http://schemas.openxmlformats.org/officeDocument/2006/relationships/slide" Target="slides/slide88.xml"/><Relationship Id="rId174" Type="http://schemas.openxmlformats.org/officeDocument/2006/relationships/slide" Target="slides/slide89.xml"/><Relationship Id="rId175" Type="http://schemas.openxmlformats.org/officeDocument/2006/relationships/slide" Target="slides/slide90.xml"/><Relationship Id="rId176" Type="http://schemas.openxmlformats.org/officeDocument/2006/relationships/slide" Target="slides/slide91.xml"/><Relationship Id="rId177" Type="http://schemas.openxmlformats.org/officeDocument/2006/relationships/slide" Target="slides/slide92.xml"/><Relationship Id="rId1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16995-98B5-41DB-BAB9-6D08A83F0C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5AA8-9E84-469C-A270-68585B9A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45703-9871-430C-88AB-7E24D5314536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D4C3F2-41E2-4017-B566-F8576DDBA37B}" type="slidenum">
              <a:t>&lt;#&gt;</a:t>
            </a:fld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8BC6BC-BF40-4624-B09A-5707F3295977}" type="slidenum">
              <a:t>&lt;#&gt;</a:t>
            </a:fld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E2A10F5-CACD-441F-80D8-197996A6341B}" type="slidenum">
              <a:t>&lt;#&gt;</a:t>
            </a:fld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5132A2-DB43-4A85-8427-2487C771FC08}" type="slidenum">
              <a:t>&lt;#&gt;</a:t>
            </a:fld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0C87D4-1A79-470E-8CF9-E606144C5935}" type="slidenum">
              <a:t>&lt;#&gt;</a:t>
            </a:fld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0123B2-ECA8-4455-B1F8-898A4B7725C7}" type="slidenum">
              <a:t>&lt;#&gt;</a:t>
            </a:fld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E00213-9BAC-40D8-BC06-549D9B0CB736}" type="slidenum">
              <a:t>&lt;#&gt;</a:t>
            </a:fld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E3D64B-2C1B-44EA-BD1E-D119332EB69B}" type="slidenum">
              <a:t>&lt;#&gt;</a:t>
            </a:fld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55BDDD-4B0D-4609-A620-2C1A55D82B6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C783D-EDFC-4DCB-A94D-2C4D8B52186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BCDF2-D785-45EB-A5D1-5E0608971C4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5E48B-AE80-49B1-B50D-BECBC22A090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18EDE-CD69-4D92-ABDE-2AB19915FAF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B498D-8B15-4D98-A015-73384BBB9BF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BDF62-34F0-46A0-9B32-7E48D611597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3A226-3D01-4BFA-95DA-DAC53C5E8F7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B5AC1-7385-4595-9791-7665DC708C9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F6D6A6-1C4D-45EE-98A1-577CDC26F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C93C-3669-4B98-A34D-AFA8F410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7E9575-A58A-4DBB-A0CD-13E53FF5DB6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05C538-4D1E-45CA-B313-CF00D060BC7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699AD3-B474-4F27-AE17-131D70EBB32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76FB87-C2F4-49C7-B7E9-5528A021BB1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448497-9603-40A4-B1E1-FF609774072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15AE3E-6BD4-49B1-AC21-85FBD44FC8C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131901-90CA-44B6-BFFA-180A3577AA6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903996-4072-418B-A1C9-C5A48EF9495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8E0FE7-A8CE-4079-B423-A547D3A4D14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1854A5-0AC3-40E4-BD48-8A60014B5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6BF98-8986-4EFA-80F1-E407E28AD1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2B43F7-3DE0-4D3B-86AC-91A7AC71095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FD65C5-42E9-4EDE-BDBD-DF941BCDE12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274B70-72F7-45FB-80CC-A028768C9DC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F2BC4B-B6C8-4521-9503-1352F097D32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8A412B-B039-46AC-8827-8AD96DB3E0A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512CF2-B8DE-4C07-A644-59B520D3DCA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546869-0A79-4E3B-944A-E0B93F42CF0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996623-A1AA-4844-B3E6-5EEFE06078C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BCF334-A9C2-4EDF-B443-B3452A5C754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0A409C-E851-463E-A010-DF536D5CEF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BE6C-9547-49A1-BD01-EE8E11B238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B6B7EA-74BB-4220-81E8-5024D60E9C6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F29107-86F6-4A27-A128-9DFF5854883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45CC92-BF53-42B4-BD9D-E7C5C896F93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C19FD-F17B-4F1B-B694-47FB0789AB6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3D082-65A6-4AF5-BB48-C10510ADDCD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330B4-86A4-484C-89BE-A69DE1BB78D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11BB0-B01F-43E9-ACAB-16BC62CA50F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63E6A-4229-4347-8C96-D440F036F11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7D51C-A52B-4266-8307-F1FC16A72BE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5CF4D-19B6-4D47-A291-65D6028E04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9839-C845-406E-A284-D6D9F0BB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69046-069E-41DF-B884-E3C27ED5F2A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F17A0-1464-4B6D-BEA6-ECAC6D4A50F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42182-0DC1-49B4-B9FE-D3952BEAF07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42B06-CB5B-4FD5-86B1-32355655237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473C8-9639-4670-86EE-0F95329D319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D5F8D9-8FED-446C-BB38-2F98B747C0C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CC4980-D829-4315-817E-CBBCE9D739C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9159B3-F620-4E7A-98D8-D0432C7C9E9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4F1B56-1DA1-412E-A019-987193AA181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112269-3D73-4F62-806E-35A496246C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C2DC-0C55-4B64-B175-5D1E89D9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810775-0364-4B60-8543-922B4417ED4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46035D-E53E-41E7-BE38-B21A49F793A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375CBA-A563-4835-8F88-F3A34AF94EF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10FD4D-647F-4B4E-97F5-484843E233B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B8EAB2-4239-420E-A741-2F2494A4365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72A08F-F32E-484A-8233-6EA807C8C4F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F147E3-627F-425F-ADFB-9233B19F7F8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44C3F9-C0EC-44EC-91E3-5F1D2CEC343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9D1E20-1BA3-4BE0-921B-E7D03C6AC8C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93C6E1-6850-4931-BFF2-242776BE23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1733-1BCA-4623-A0CC-4AB88CA9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863511-A182-4B5D-971A-5F0E76088B7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F579C7-B0DE-4123-9319-30F875286F0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BEFA4E-0DE1-4AFD-9B16-642E37065CF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E13B74-0C3D-4CE2-A718-053EB62E4C5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192AEB-F7E4-4022-8AE1-BE5534C9578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1106BB-B2C3-4C42-85EA-557DCD99114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F99A08-8D78-4CEA-A8ED-D87EB1BFC83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1DC392-3B06-4573-B783-C5075003507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D24DB6-5AB0-4D06-B112-02C57D3EFA4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B6946-23D7-4A6B-88E5-84A0605C08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1FAD-E34D-4CF4-A510-261E667A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132E3-35A6-4590-B049-BEF131010D9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E3E28-A6F7-43F2-8F42-4F811D7EEF2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1FF25-0F48-4BE5-AC76-550B76FD003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75081-820A-4272-8483-2B1A13BECE5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2301D-1AE8-4374-8FC6-D6F36A27854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DC383-155C-4202-85A9-A5E9AFC9C77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19C04-0CAB-48AD-8026-7C46251EE7D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15576-BF72-4B01-BE86-275D32F7C5C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6FF34-1205-4732-9FC0-9C049F1EDC1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206A0-6FF2-4FE4-B6A2-9C9E45CD50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BEBF-0EA0-44B2-B33C-BFC4BD8B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93444-8A96-4B45-B6D8-6EA9C429531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EB11DA-5079-4373-898A-FAC628D0200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0B7C15-0AF0-4ED4-8AE9-3C057D945A1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6F6835-9696-4400-BD13-87F7B9A4CEC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38EDF6-62EC-44B1-B1F8-84800B7F581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C61B5C-E303-4126-B08F-B53B44D3753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36D44D-1E55-48B7-BC92-1C2A7448198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2CB965-BEA5-4EEE-A894-5B0BE65268B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96DF33-86E9-4F5F-92B3-11741730E6F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EC656C-B3EA-470E-8E78-B934E383CD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A31C-F6BB-44A8-8323-B99F7472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35EA14-4DB2-455C-BB68-193D93FAB1E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81E43D-87BC-4100-9335-389D51891C0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2A0BE3-3BAA-43AB-98D5-356EFE33414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1C95C1-6F7F-4BD9-B5AC-554B8C3FAA7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D51DD5-86FE-4728-9BD4-CC8C6906468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449E6E-6972-4D84-8D07-AE970041EB0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022343-160D-448B-A930-1B107EC2871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007328-3CD4-463C-BEEB-CE64632A9F2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CE547D-F6BD-4929-B6D4-AD6BACFE11D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516009-59DE-4498-9392-8E5E6AF2C0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2BEE3-6067-46E6-A293-DA8C6D1D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41A2-F6F1-42D3-9197-5B82304F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3073A5-2DA8-4EB0-B8DA-B05D4F354D5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4727C7-EE72-4138-8BCA-39A85E3B3B3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CA2DB7-0ADD-4289-8D39-8C0B8923F93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0057EF-1281-42EB-BE6B-049DA104AE2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8A5C21-44B4-4AC0-AE10-7F41104EB9A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F9345-E8BA-4762-A1E6-A3686FEFA13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67C5B-84D3-4E06-80FD-9BB677ED0CB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DFEE5-B5D4-488A-9E6C-101260DCFE8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B3F7A-BABA-4B1D-B31C-119DCC30272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023C1-F768-4BB6-9D85-CA8460D90B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8275-7DB4-4421-A4E6-9A72CD80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C1E88-51A9-48AD-A0D3-84245FFA5C2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E10CC-8572-42BE-B332-10E10A98506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3F0C0-2C78-427C-BA56-75BF6FA63A1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3A642-6A1C-4A54-AABC-15172B1D76F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05F47-0544-4299-BC64-6E4E53419DD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F4AA4-7820-4257-A701-B74CADED39E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8DB8B-7DDB-4E0B-B3EF-5AA97E0690A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4B34-95A9-4A3E-8F61-CCA8BDE4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7C0BCC-3694-4897-8296-5E7B7B8DEF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5E01-5A3A-4408-AD08-77185021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0D67AF-84EB-461F-A338-562F964E2F1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42811B-FE90-4B70-8C02-125C8B6A1A7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278BE2-A6CF-4120-8109-209B3B234FA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F8ADCE-C4EB-41B1-98FE-69B21F8D4ED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856CBA-1134-4789-B93E-A6EE3D2528F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BD3D92-BDD7-456C-8FEE-697E5FDB282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32A07-9950-40FC-982B-48D01E279A4C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C1FE2-FD1B-4BC2-B6D8-751AC233C5E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29F84A-6E19-434E-ABA7-BA15D929F40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54DEB4-FDA0-4021-9E24-CAA134DAFD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3499-15D3-4E79-BF73-12C4E43B29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DCA329-1BF8-453E-9E88-B94A7489573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7F764A-4A25-4489-BFA8-B2FD659EF7EE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A6ADDD-5438-451B-97FF-601F03C1F4E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C31B86-C39E-466E-B8CC-53F002C8ED0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7F6103-EF44-439D-BE5D-26BB8536AE7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2BB2C3-4E1D-4FA2-9B36-577583528C0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739988-F0D9-4540-929E-23E184716EF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69AA61-09A2-457C-9360-A0399065AF3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389CAB-6E69-4D4A-9E74-F77C9ED5EDE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52137C-2A97-4851-BCBF-1654EBF0879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5B1CB-7911-4F03-974F-FA518C2DE1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345FD8-9253-4136-A298-C92B723A670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494B7B-50B9-457A-A7D1-A74828661FC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4EFA2E-0B3F-4FD5-9602-169CE372682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54990-0E97-4CE5-9C48-F3CA2717903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E7C8D-331E-4972-8C47-DCBEAD934F8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C1794-2D91-45A4-B74C-9AD9176B02F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470C8-0070-4AEC-8713-ACABC656464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C5C3A-3120-4D92-B2C0-7AB812B6E93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858EF-93C7-465E-B9B7-2AA60F5C788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3A12D-CFDE-4D32-A368-DE569DF238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EC843-FF7C-4EC3-A323-F2203F2A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CFAA5-B30E-4E2F-9ACC-DDBDA51CAA3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12C7C-5AAB-44CA-B45A-FF645AF1396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ABB19-7B16-4AA6-AD3C-B2079890122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034A0-475D-473A-BEFD-A57F021C29E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D0902-7799-4439-B0F3-79458782E4F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A00F14-F069-428A-A5EB-3566AFEC0E0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6824FA-78F9-4F0B-9B62-71769CF6F18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30A863-623A-4E24-A8F5-C9C0A3F939B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C85C4E-B6FA-44C2-A0F8-B016D657998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BE1A1E-E7F7-4D85-AC88-07B36D689E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965B2-07A6-41CB-90F4-7C29F67A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5F8027-80A2-4E40-A2F0-04516481B53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BBA59F-7C6C-41B4-A252-0CF9F44C54A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2794AE-FB18-414C-B08E-7BFF82F0B33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4001B1-660C-4E48-A911-C4B87DA998B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AE7A16-FA5D-4A1A-9D69-54E3AECBD7C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29EDFB-B29F-481B-8F30-DBC79F2D11A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72D131-B292-48B9-B2CC-B9FF1D78661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3F8B39-2CB9-4FB2-8ED0-EA6C4DD112A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CA7C4C-2B5E-46EF-9DA4-A756F384E64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DF5B0E-863A-4B48-A5CA-400FEFAF46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6BCF7-3F0D-4386-8B41-3D40B755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6C10E8-78C2-437C-927E-94F97799E91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BA2135-EF04-4302-BC1F-DD9AF7A1D0B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C16BCA-EFB7-46A3-9767-2A8D433EDEF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ED7F0C-099D-4E62-A58D-7CF1410A674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C8CFB3-E286-45A4-8BEC-A9E12903F8A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30AD3A-C7EA-4D9A-A72D-09747814758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0CB362-FD7D-41DE-8CA5-A05A351B997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F19BBF-17EB-4181-BA35-13D953F6C69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C72CFD-6EAA-422C-8A47-C18236A5C4C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C9C87-FACD-4342-A0ED-81C343242B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0A3C8-878C-46B4-A7C4-C5BA21E5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E9A25-A1FC-4321-B35B-2D861AAD471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8D7BB-9905-42F2-A7B2-6A10B42190A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8B2D0-053A-4BC1-8007-6BC8FA00B6C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28E2B-7AC6-4DF0-83EE-214BC24B4F2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D59A0-753F-456D-BB4F-C6E351330FC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80B09-9FAF-48AD-A32F-603584C7B17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D415E-1E8C-485E-BBDC-60ECD93BEAA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3E10A-B166-48BE-8E84-FA6F9156091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C9905-40E8-4DB3-A76B-63EADF14587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BAA4A-1788-461C-8996-6D68BF7A04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582C3-DEA1-4C9A-AED8-2DA3113C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1352B-834E-4C0C-88EE-1C7E6261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84E17-29EB-41AB-BEF8-97A4E5DB1B5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2975F2-4DBA-458A-A53D-B34EFD2690C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0A31A9-97EF-434D-BF54-FD312206AB7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1B452C-89B9-4AE6-9E25-FC8D0891DEC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4B57E0-C383-466A-BC90-F775525951CF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DC52AC-19AF-41BA-9108-8333AD94B8F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A33FEC-3617-427E-877E-685CA64F062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639547-BC6A-442D-9F42-D0EC987587B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C1E507-FAEE-4EB1-9E11-7E1D15349782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218586-EE8F-463A-9E7E-CBE622DBDB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FC904-D8C6-4B3C-9F1C-9442F8B7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B4855E-1756-4CB2-83A5-F7427BA594B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4FCDAC-975B-457D-A59C-460F213069C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A06774D-7B01-4F71-AC72-39B5BA3A9B0C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7A95E7-3C0B-49DF-80B9-06D0E0B9BB29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39DC04-CCD5-4AB8-8F6B-4AD337C625BE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AFF1E7-DC44-4801-BED4-4C318732DCD5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935466-D3AC-476F-87D8-03FA1BA1193D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662965-DA20-469F-A571-5F8869DA1108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1A36F7-2129-426E-BD10-6C9DCC2E6049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99AEED-891E-436A-8C6F-EA82586565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AE156-26E3-4E02-88C8-27CFA3F7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88844C-B346-4EB7-AA43-B2F177EDBC2E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C7DE03-6DC1-49A6-90D5-269FF3A6CD78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04A8D4-620D-435D-9F93-8B0FB3E17AD1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6477BE-50EE-49CB-A7CD-91EFFE3F7F9B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D67EEA-90AA-4854-921E-7237B6E3B09D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DA914-7AF0-424F-96B3-0EAED7B19B57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89206-9FD3-49C1-BF6B-B9A34802B4D8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7C104-69F5-4561-A2CD-DE55018F8A5A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A9AE4-2731-4110-810E-2E7795823A61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A080D-882E-4BE7-9352-BAF7D62160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1EB64-36A7-4A10-BA9A-F7ADF231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55836-F548-4AFA-8C59-B9DE7735517B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831CD-6DE2-4B56-83F1-0A5D8B577E54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97F7A-1924-4843-809D-D9A6929AF6F6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7A713-7327-4C96-A570-BD21E0EA2D97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E7A72-B2BE-4F5B-8B3C-31BAACBEACC8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16AB7-D1CA-428C-876E-37EB27B3DBAD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E8AA3-A0D9-433A-9DB5-1B38A71146E8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6C55FF-C008-475C-8606-64513DF0847B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58E3F8-79A8-44F7-8FE3-6EDE0360CA5A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88B15E-803B-4AFD-8AAB-26E01060B6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B7A92-15E1-4848-8E3F-83253A08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D7A08D-DE27-4778-8F8B-44B103CB8A0A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15D653-A9EA-4B40-BC51-5218F3887F6C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1402B4-AB97-4DEE-9CE1-0D85406930B7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1A69BF-396D-454F-BF54-EB5D291CE022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5E3B4C-6B5F-47A2-AB69-2BCDF86A2617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6B52B5-5AE1-42DF-916E-C0CB36FBC0F8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9CF271-4062-404B-A4A9-8634D660512B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624496-16E9-44DC-8091-F18417FFA2A7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0769FF-70A4-4BC7-9E88-F8F3F3D0BE70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CC93D-903B-4DD9-9E23-FA196D66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7C530-E392-4795-B9C6-45DA4AFCC2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0928C6-8213-4190-8231-B84FCC60FE60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8649D5-D737-485D-A8AB-B2B824229621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6E5C4B-919B-4486-8ADF-BCB42C378241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2986F7-E4E7-4C3F-B8CD-8F1D828E2375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47F73D-B328-4484-811E-AEB5ED60F4FF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8B5482-C361-42F0-A190-218F923FC21D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55C295-0E40-4DF8-B092-AD135060A293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EEDFCE-334A-46D6-91DD-CBA0387492DF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DBB067-442A-455F-97E2-6E40890F8A7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D2B048-0529-4D91-A289-4192ECC43C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6A6413-4354-44FE-9032-3A0066D69982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4E0C00-B051-41AC-8B06-1FC2E21FEBC3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3BCF79-F4AA-4A67-8392-03EFB14A6116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31D5D-A2D4-4B9B-9685-533715227976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42BAC-C12D-4EFB-BE9A-66E3E8B69745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D8DA7-DCB8-4214-92B1-400634D6BE92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8937B-3893-43E9-8CA6-8F1A59D43318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E6CA3-B632-4558-B835-DA30C716F35B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D6630-AE27-4194-BA61-FFE0D91950E7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EA607-A54B-4603-817D-8A27D801290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F257F6-F9C3-47D1-95F7-49DFCFF2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97EC1-8016-4B7B-BC7A-039C5B02D28A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1DC2B-92E6-4E97-96EA-24CB65D958AA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62466-4F2D-4EB4-A48D-C37B324B3094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9D970-4CF2-408E-B7A1-62077F679F0C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11D31-3EDC-49E6-9296-2BB2746AB957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C91575-04EF-4C2D-85DF-B3A54E4C86A6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C312FDC-3285-4E18-8161-FEA667C6313C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9E28ABD-B190-4B1E-92D7-47C1036CBA40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9AA4329-62E3-42FD-8E2F-9B5D399AF4B6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E663B75-D907-4883-91F4-B85DBF72B6A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34FC90-94D1-4EA6-8C14-600E0CC8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DA8BA7C-612B-439A-B595-0727B2ABEFFC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C4F960F-F581-4D1F-83DE-0B0D042F1A1E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BE2BB5D-55ED-4DB8-8DAF-B511E61539DA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8912CA-D381-4F86-84A7-5664B1107E3E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8D4CA13-11B3-4B8E-88DB-543A7A3BBCBD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4BF8FE1-EB59-4F2E-BEA6-850384232FC6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C03DAFD-BA33-4E92-85A6-0B20CA8D7371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983FF2-FE58-4A4F-819E-46D73A4B2B3D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A6EB78-2C66-4D5B-BDFA-D93B4D4435F6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5CD9A4-4734-464F-A88B-386D0DC4D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9BD19-FB39-491B-8013-E13A06D1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5325C1-74F9-4A4F-89C5-4AA66CE6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FAE093-8747-4EAE-950A-06C97A218A83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A9745C-138F-429C-89FE-C7A143C1086A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B09869-BA05-4563-8C35-FC06089D4978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9A1573-2D2E-415E-BF81-1E449627A72A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7AD258-B10B-4714-9F70-4FC3CD496EC7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BC0589-2D99-4C1F-BA38-FE956CB8C9E1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78549D-A3FF-469B-B4CF-D8DC9E55E27A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0ED70D-A79B-4705-A51A-CD465ADC566B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0E166B-6877-4D4C-8CA8-AAD9ADDC550C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AD4A84-58ED-4E9B-A1F2-40A2D076C1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6A59A8-363F-4E1A-AE8C-E5C8D2A8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4272EA-A5F1-4FB2-80B9-D6201ED7F572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2762F8-1163-467B-B136-D65E8A955D29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2B3D60-A150-46BF-B1D3-E382057B8FAA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4D2F52-2B2B-450D-9718-4EA614DA8AAB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D220CA-2E24-42EE-80B5-A6B7F59DC798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820C66-2D21-4CA4-A30C-8083200C2E72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1712CC-FFCF-49F0-9BEC-EA5F466A684A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CA43AD-2080-4871-AA63-0EED4C41C5C3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2B313C-0F09-4782-8283-E29EFC3FE045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738DA2-87CE-407B-AEEF-79CB20BAF41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CF19DA-AE42-47F8-A364-CA0D74C9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72F521-967C-4121-9002-374CECBC1886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DD142D2-E444-40FD-871F-F65B7BB55E4D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982EA4A-8BE3-4897-BA61-B9455F2C2A7B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F04A06B-5B48-420E-99C8-89E7D2335FD7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87C16EA-4115-40C6-9899-5068A6906692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A634104-7D83-4F88-B3E3-3E89676C9B63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2CEDE17-E9D8-459D-8D1B-160EAD18F1D4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C5F5A84-F404-4374-9025-7D15E90CADA0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61E2A53-06F7-443C-8334-7732DA737A82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71BFC65-C0C3-4E42-BC3F-822C7D16042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D04549-1C6A-4ECB-B8CC-83F68858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5EB6098-2745-4B87-9AC9-B834765D6EDA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D847A5C-170E-4F90-B548-98B7B2B411DC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854F3F1-0417-4A40-8F3B-285AD4477013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98C9CC6-F9F9-465C-B0C5-01C2B7665360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FF49B28-3CCF-437D-8998-C2AFB9A63318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F197E7E-03CB-4811-A32A-3190D2BC197D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99D0817-7AEE-4042-9119-81BD28501B48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6EEB31-396E-4700-85B6-ED063BC51B6A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81BE82A-2353-4A25-B42F-DE67F0A0C3C8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7232C1-1EA7-4E04-9D95-9E51439456C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C4D346-D546-4ECC-A2AE-BA03EA73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90EC5CE-7C4C-4E0C-8DDA-4246750D5EFD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793E6C3-209C-4A1D-8C73-665AD4A39367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C30DAFA-8C9D-4FE5-96BD-2128BF020ABF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D957BA3-1A57-46DD-97A5-3466C6B6BC5B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79CF40-2159-4CDC-B2A3-620778C773FE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66BA33-6910-40D6-B375-0FE5D906ED22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5CFFDA-BD3E-4CC9-A879-8EC064706CBB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C4C037-FCA5-4FA3-B256-EC9D266C245E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7B2C24-48D1-4630-A80A-19A0CE6962CE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5CC60F-B0B4-434E-962B-E0B6832BEF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0DD497-8F80-4FB5-BDEF-24109129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3DA638-39F0-4A24-A444-E7AFAFFDD7E9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E08BB5-877E-43DE-90D1-D687894DB1E5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3BB432-2626-4AC9-872D-F630409FCF3A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8F2B9D-B82F-44BA-9184-204B977B4F5B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EB4AED-6B49-4BF2-B21F-7E693E59F3E8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DBE72C-BE57-4A97-8614-06F6EF64E63A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44A631-F11F-495B-A988-F2F71106BAA7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DF2909F-A269-4DD5-BF45-1E3BD6EAA52C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781A1EA-6D41-4ED9-9388-A4896446754A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7696A28-3CE3-4F65-A48D-734D78027B2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DC5EF7-E4C7-46C8-8A46-3E528305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8AA37CF-2188-43FB-821F-4F1E29B031B5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55E75BA-AA51-402D-8DDC-1AA3F0E68853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14AB299-7E89-46B7-8FDB-39C867A1BCAC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D45C8CF-A6C1-4395-8833-108B9AE3DE09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AE1A6F0-6EEE-49EE-B3D7-C82267B0A355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6C4BCC2-5A6D-42E3-8A18-DC2A368B9CDA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611CDD4-8F0C-4B2D-9AB3-3A6EBB93F196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5DCB1AE-B09D-4D7B-8F95-C2567BE8E1E1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5EDA70C-9F29-4A15-9EF5-E1E28856D4F5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D28928-B268-4CF4-9962-5E149CEB0ED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623C81-F27A-430D-A1B7-CF6AB4A4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5C7D6B0-BF6E-435F-A57A-3270BE25483B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6C6F11D-6F06-4E34-907B-CB73ED8539F7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9794C6F-95CF-4847-9B4D-40256E82B16B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42E0C24-D677-47B9-9D1E-1AB26CEFF6A6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D582909-D1AA-4B2D-932C-880F8B3C781B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292913-84CB-43B7-91DA-9C9CA2EAB268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16FF8B1-8214-4538-A679-B981BD0E1DAA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025A374-8922-4F5B-AFDA-00AD1CF0DE96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8AE415D-6EE2-4AFE-9A2B-D2640D4F5FFC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9DB161-39D2-4305-AF98-CE60ED6F994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085ABD-51CA-4CAF-AA9F-623AD1517E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AB59F68-C7A8-4682-B2FC-0F8CB13A7223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6DDB1-5B11-4FFE-894F-B0149A56FA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441151-D753-40B8-B943-9EA558D3E635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D1AA0C-7EAB-4865-8F4C-675A6423A888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3FB940-1DB9-4972-8265-498D337E81D3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BD1278-D9CD-4142-AC9A-6241E2BB0E24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B42ABD-A5E5-40E0-8CAD-ED9067DFB5FB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57D8AB-442F-47CC-89C9-9992BE42CE2E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16F6F4-7DFC-49C9-9793-DBE7EAA809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4BF7F-CF96-452D-9386-69E4EBDB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A9A3D-D209-46E6-AFCF-489AEF19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04F786-DEFB-4E52-87A0-10E0BDB826F1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936081-1F7F-4966-88CA-C247396CC91A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6EDEAE-F8BB-406F-A6EF-6CAB32F3D863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58E38D-2D9C-4908-ABD1-E7B8B7CFDF3E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AEF0F1-5AD0-4EF2-9877-02542FE0C3E0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C2FD40F-3FC6-4DF9-8127-FBB184682AB3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D35FDF2-DFD6-410F-9962-805DECB832FE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7B564E3-E26E-4EDF-A951-E730CA7A1420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7009374-B2B4-4050-8F94-E68BF7E7C08D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76D7A6A-5325-4693-88CA-67D9D01776C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B2E44-8C3F-4B27-A320-7DC82EE2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6C6BC68-EA67-4904-A20D-6FCF8D2A73A1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F28BA77-338E-4F14-AF6D-AA609EC795E0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2896732-D9A3-4D51-9DEB-18891D9DC073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4E5901C-5C82-4CA8-9DA3-D17AA97A5B5B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4E1AAFA-348B-4E3E-921A-9EBB94FDD4A6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9297E6B-968A-4D28-B0C1-13D0D1295682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0FD18F8-516C-49C9-92EB-4ACF3F4307F4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6B80C49-557E-4F30-B15B-325CFDA22BB6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09CF626-AB2B-44B2-B00D-95406A785467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F74C7C0-8CEE-4C89-9C9A-AF8B9A5FB27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7B518-7830-4DA9-A00C-F388FC4B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68A6921-3B17-4A76-B7E5-EA24B8B09FAB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2B1959F-01A9-4966-967C-08B3C9AB8FCB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0868AAC-0901-4588-BD51-9E5024104B48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EFAE185-9DA8-457C-B973-8D8EE19B4721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99C348F-942A-42E2-96BD-86E1F94DAC1D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F7427C3-7164-4408-9C6B-10A0B4BF6F0F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D7906C3-B981-4C59-A061-E976959771DA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A1B4343-1E79-4FEF-8505-A7FDC47E8E60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03EC1EE-4EE6-400E-AA1D-286780C52026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1FCF2C-F071-412F-A976-44B564FF8AC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628AD-93A5-4CAF-972A-F6B37BE8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EE7273-8E33-4E18-A550-BC3581BC9A1A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40DD2C-AECE-4374-92EF-8BD82225E621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28086E-12F9-41CE-B25C-72EF18DD2981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B53826-3ECA-4909-84F1-027554659749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4248A4-9C59-47AC-9326-D7C5F060BC7F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83D790-6A0A-49EC-AD39-E5C67D0D5068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8E8DAF-3876-454D-B75E-EC2FF527C05B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C6F925-D02D-4E25-8558-D36FF25D0AD2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73800F-7EB4-4A0E-8F23-DFB005A9BABE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E9D9AB-9CA4-4546-90D1-4953408AA64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BBC7A-29DF-4A5A-9A2A-639E0752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F3455B-4EE1-4F5D-A4EA-0D50F171C51B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74D64D2-6B64-443F-8CC8-FEB599C3E17B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726A2A0-67F5-4152-B0DE-8BB783596EE9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731A919-CB25-409D-93CF-5293508E8621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BB93136-84BF-4BC9-8B5C-8A52B38341B1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6354D59-0073-41C5-B7FE-92874CD663F6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E50C74C-739D-4933-9505-810FFC81FE91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B0E394F-9294-4D5C-A9C2-93194BD22B3B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9EFB85C-F129-4A00-BFC3-1F123846AC69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BD2FAA9-910E-4675-8636-85265087998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C030B-7FF6-4D58-86AF-EA2F9C32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91C1E21-EDFE-4786-A7C1-919E5C854141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DAA7129-4B02-452F-B0C6-24F75D4DE702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D04FDE5-304C-46EE-A402-B37918B16FA2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3904526-E9A8-4AC1-B2E9-6912AED4F31A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8488B96-B9A1-4E9B-93DF-6ECA0F76D770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5BD641A-28BE-4B01-8246-24BC27A7F616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A6E2DC0-51AC-4B59-97CF-B1560EFE931A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09FDF5E-E8AF-4C01-BD7B-DCC8668B857B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FD7593B-B164-4AA0-A72B-529EFAD28BC1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8E24071-749C-45CC-A3B7-62DF9E3CAB4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EA767-BA13-49AB-8388-0894D687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A4C2056-8E2C-4297-9B18-9620124BFF89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B3D1A33-C47B-4541-873B-12AC8C943431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7C05624-CF52-465B-B8F8-CFFB77CC4CD7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06BD6B8-984A-492D-8D0A-063D1C1A082B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C31DC57-668F-4AE9-A585-43E604650F63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05444C-822B-4CE8-A8F2-1A39E22A17F5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D51520-D54D-4770-95BB-B38B276ADB44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6930EF-66AF-4B9D-9B00-54A7FD15ECDB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D15748-DFFC-471A-8126-34FFA6E21438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8458A0-E8AF-4C40-9CDB-159ED4A34FB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2E06E-5006-4265-880B-8033A6B8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B13F1B-638A-4D3D-954A-E638120DD9B6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3ECAA0-9BE3-4B68-A417-11B890F74D7D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32DA5B-A925-4279-AF0E-D3D3EC56A0D1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3DE5FA-9565-4017-81F2-DAC1A46FC0A6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E07CEB-1EF0-4812-87A5-C3AB13C6674C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62A37F-D020-4311-839B-A214F5BF89D8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815CB0-BE2E-4A1F-AF23-FE91239B94F7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EFE43FC-BCF4-4CC4-9C5D-B6EB712147BC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88B4412-C408-4D47-8D10-959B9D6F8129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D119265-C4A2-45D5-86F7-7078E031FA2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42C74-FA07-4FB9-A4BC-6B17CB35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39BC233-B6BC-49A6-90D2-D07CA5CDFEC6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EDFB92C-7937-4D72-9C85-8B6F89524DFA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B148C99-4463-4497-ADBE-41B5900E7016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99AFE1D-46D7-406B-9E79-B5CD63FEFC60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C7F5ED6-CCE1-4B9D-A8F5-9644A8C72926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7939DA7-7B91-4C4D-806F-AECAB0C65E60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C9B87ED-9F76-4E9D-9214-D6C8475540F2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AC9EEA9-0788-4A88-AA77-A65F9484C6FB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F6F54F2-929B-4E06-B8B7-E132C787E444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ED6C27D-8478-4457-8692-7725323D97F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723AE-2A5E-4C1E-8BB0-012ABF60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CC645B8-6FEB-4783-BF01-E3E821806312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6921448-3AE9-4BA4-A2D6-D75B521161DA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1C870BF-990E-4925-8B61-2CCFF610379F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628A7EB-9DC5-4269-B4BE-6062DB5EF6D8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DE789D9-B055-46B1-876D-2047A75CEDC4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2522C04-FCCA-489D-B9C3-5938457D645F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713A083-AB88-4DB1-A4C5-2ADE30C5810B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4065DD0-125E-4C2D-867F-5ED4AB3894EE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3AC0C2D-BD6B-430F-9AE3-BAFE5EA75E04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C3F2EAE-1804-4EC5-A29E-C8379651E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11615-F1B8-4705-A286-4EC24D12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5577A-B00C-40E2-9226-6731212838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1E112D2-B86A-4359-A093-55C14B08B2C4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2BBAB9-8041-4C5A-A334-4FDE8E7EEF66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17F314-520B-4943-AB7D-B1AE9CD194D0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678F7C-2CFF-412E-88F5-79B203069EBB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8DE0E3-FA16-468B-AB33-20DA050E3931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3FCFFB-AA4F-4553-A4F8-AD6136CEC9C8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9B57B4-F422-4F55-AE17-C512862810E1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FF1A9F-6030-4D8B-9B32-9CC84EBF4EA6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D5A728-C664-4F74-8921-E3CA02F0407B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5EEB61-F5CC-44ED-A36D-7631E851F10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F53A09-DC9D-466E-82F4-3B66BFEAFC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DC1D1D-532A-4C89-A173-BE88C1E8C226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C00555-B811-4961-A5E6-873073DDEE97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E9AE56-A624-43D2-BD79-9CAC46474653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843CAF-F15E-4735-8139-A175920E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CD2F17F-B750-4C36-9649-07843B981229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740E022-B695-43F9-9530-DD6085B4625E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7BD1C15-7DB7-4226-9F0B-AF1B629E576C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5A34B8A-F9F6-4A14-9ACC-4343EC7A567A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0C8D779-8252-4D08-A64C-E9B72328676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DD4983-FDB4-4672-8083-C1D530F1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5120C06-508B-4C5D-95ED-9F7A0342D25B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DEB7B1C-7A94-400B-9522-BD3E72566BB1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A648522-E302-448E-A246-87347889EDE1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1C04265-6885-48B5-B414-EC42FB7E87CC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A8EBD7A-8E75-406D-92DB-CFB75C8CC968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32E2DCE-D0E8-44DD-BB63-3E372E2207F3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BDD8689-6EC7-4AA1-9840-4D52E1FFCF85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7AFD952-0656-4E27-8857-87ED735E7AA5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6A768AF-EE37-4B42-941E-515C6D99EAC1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6735909-704F-48FB-9F06-9817B7BF779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D4FE35-31A6-415E-8D33-9B07BB39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4621467-3D7B-430F-9224-F20FDA8F7D47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E53F42A-DB06-401E-B34C-AF9B2BCD124F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594EE08-0489-4E6A-9CB7-51384C9DC685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8247531-7ABC-450B-B838-B95A02A5ABBF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3802376-A6D4-4820-9555-2CC98E35333C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CD10EFC-58BF-448B-B6CA-7D33D3C1867E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A0289E4-201A-49A5-A049-1C38D09E3D86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3F016EB-BCEB-4657-BD6D-AD0351B99498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15C8530-C16D-4509-90F0-6A1FD9015D8D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D674B9-4A64-4033-94AA-622B6723721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8E9804-4CA5-4206-8706-19D5D009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1C9865-F95B-4901-B168-4BCD732B87EA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AFAD2A-E9F4-415C-A032-0D38C2D3D1C8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32F8FA-A21C-4DE2-8816-09A16A7B8902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713093-87A4-404D-B1DF-BA1BB85FE89F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D7B813-FA8F-49B0-8018-C490108F9525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8AFECF-7533-4673-8D62-4695F15BA089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EA5202-B00A-4911-A21D-DC1C834F522E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D2E759-0368-498E-8705-A091997B610A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441423-235D-4E8A-973E-05D86370B605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CC2032-281B-43DB-905C-9EA0C456A47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EBE0FA-B8F2-4CBC-A1F6-614DE520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31E468-D874-4676-A20B-10B5D2B54AE1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27D2670-2F00-4492-A547-2A30FA5C90D0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C638B77-1BE8-417C-A36C-B1FFB4FD4195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6D82A04-3B98-429A-AEB7-045B358FAC9A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067EA11-2D4C-4414-88A1-77BECCA1BDFC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14D6B82-53C4-4970-AAD0-E4CF544F3557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3ECD427-1B44-4BD0-814D-12DCD1E5CBAC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A542D4C-8365-45F3-9B1E-BEE4E5D2CFF1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4944097-8F71-477D-8169-5C0600160E26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698D396-908A-48C4-B826-7E50685D735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2E4680-B021-4BB0-B0FE-C6293C97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F938812-EAD1-4182-8147-C2D364250FEF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36AA1C8-82AA-4003-AE39-1349EEF68185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F650079-ACEB-4D3A-AEE8-23D762E77C31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B8EADE1-2044-417E-9A7D-CCFE6F68866E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B71E5DC-054B-4B01-849D-3628AAAB57C3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DC87957-CC18-444F-AA45-D12FBBE4EFD2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E5B87C4-2EFD-4CA2-8544-2DD66B4F448A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D3A4BBB-DED5-40A9-B172-9EE543F25072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0FDC379-5074-4BE6-8897-ED2B136CC582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38EEB3A-BFE3-46F5-BD4D-6B4FE564680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804CDE-ED60-440F-A2A3-FB959A99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7496DD3-CBE4-400E-A520-87E0C41BC335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6FA452B-C825-41B5-900B-F0EBD67B8479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A4C5B94-97D0-4A1C-A031-48724F08FE20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73C4EBA-B1D5-4B02-AEFE-737C0A80126C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86D02F7-01E0-48AA-9CFB-42E6D0A6F719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643865-7321-46AA-92BC-6B47EEDBD303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C8A8A8-0894-4DEC-9E31-B237A6AE8BFA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92AF87-CC5A-4B27-A56F-B1D25B251FB4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BF924B-D7E0-438B-83CE-67B3C5A01732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F7A425-F0A0-4A3E-B01C-A5CC2D6CBAC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ACB97D-43E1-416B-9C8A-D51864D0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8F80CF-C2CE-4A8B-B596-6C093423C4A8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2962B9-D447-4711-BF29-C8F3BE70768D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3B2662-BD64-4CCA-98CF-D3DE36616E5B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458C65-0E6D-4FF8-8318-F86493AE8312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E8DD40-03EF-4817-8F47-24EBAD4182A4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768F95-3AA6-4FDA-A043-31A199D0D1AF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3DC183-2902-4146-B13C-81D6F4301962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253A562-B04C-46F6-AA28-11959684A6B3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6F7F86C-C9E2-455E-AB3C-44CB14895712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C5E8823-85D7-43CA-AA29-6EBFEAB57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F3564-D067-40A8-8C4C-8A1D123A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73323A-F024-4CAD-9155-56584683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60CCE34-0FE6-45AD-8864-A6491EA4977B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ADCA37C-11C9-477F-AC8B-B3AD7E2E9952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2FDFAD5-F36C-4B86-B1AB-949B2F0441BA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9BE5ACC-4E11-4423-BF0E-8DE09DF93E60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819B392-DD83-4AB9-9C55-4CF516723650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C1C63E8-9C9D-471B-A9D4-13E7C6B7984B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74B57BE-36EA-49D4-8722-51AB99F3E5CD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8B5242E-6CAD-4AF5-BD9B-9099BA72FBC7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E278780-358F-49AD-8894-EEEB98C02743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0F054F4-9A52-40A4-AB48-2D89F7CAEA8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D6A4C5-ECE7-4CE3-8E0E-9B2606F8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1C53058-EA67-42B2-AC6A-60BC47B7BD12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C9421F0-66AE-4B63-9C46-7C6A01041CCA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758F0F3-F113-48DF-B886-4D75D0CA70DA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98B3D15-B902-4288-8C33-FE584B0FF836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D430FCD-69B6-4542-8E0C-2515C6C4FA39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3C9F5C2-D587-473A-B542-B664E2154DE9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E6C5D9F-326C-4AAD-9B76-683F1F2A5158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9C51059-45E8-4DBE-A71A-65B7BD00DC51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F233E94-99F9-4B36-9F76-B8F33917FBEC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302DC6A-F3E0-46F0-B871-4F672C22D17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69DAFA-0185-4907-941E-FFED8CAEF1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E6E3A4F-1BD9-40B4-A642-64A417262B40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3A46BA-94BF-45C1-8706-92092C311305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6CAB82-8370-4255-87BB-A653D27F5D14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749333-E5A9-42A0-BAF2-3ED70C5DA889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7FBACF-D86A-426D-9D92-974A579D8382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BF31F2-1FB2-40EB-BB6C-19D8D15FAAE3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2F6E0C-BBFD-4733-9426-3087C1A32128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F217CF-EE2A-4E0F-A3FB-123626C58248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F29B70-DBC3-4866-8B36-14F46E12E00D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415FEB-2074-44BC-A460-111B303DCDA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D4D9A6-B865-4D42-A50F-8822F3F5CE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5B4770-4B36-41E6-8C19-F85BE1F5FD76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9CB4DB-AF15-4323-A760-205E47692101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60D73B-6D51-48EE-A265-1A6870A81A26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D19811E-3611-4200-B927-A62E1F4068A5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C073EA9-22F1-4E70-83F0-AC79EADF23FF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B682C57-11AD-4348-A02C-0C929B77D2B1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F0EFD3C-47C6-4CA5-B02A-07206B5E38DF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A7FFF64-04E3-41E3-9206-6CA0E6F749C5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5440B19-3777-4C27-8B84-AD3270FC0863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885F43B-9D81-4BBC-8ECE-B8FDFD9C20F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9CA7AE-0091-47E3-997B-DE0D23A3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3E485A6-D018-45EE-9709-40A455DD2E0C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F1011FE-47C8-43C4-A3FE-40DEDA766A4C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6A9649C-F9A1-4639-9BE2-872E4305DD60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0F6F033-24C2-460A-9F21-18382540A476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F1F9A3D-D8A0-4343-ABA8-2625E75E02C8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B309EB-D76F-41D1-8014-B5A96A3B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42DD411-F836-443A-8EBC-835DDDB66F90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EF8D943-4CB8-4263-A9F9-8246546CD00A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2BA2E3A-2C5D-4874-B138-2F6789A0048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CACACC-48B0-460F-B433-841FA4C7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74BA3D9-902B-47F5-905F-23E45C12176D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53D0961-2A0A-4235-B25E-641F6E4ABDBD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86A5C6D-BE09-44A9-A72B-2AC5E408C369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43E24CA-296E-4A57-8BB4-FF456CCD2979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BEFE249-5481-4AD5-845E-77B1C65DD152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202A3A2-A8DA-4ED1-8380-20479CDC9743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ED0BB0F-5196-4DC3-A5CB-99E832CB01C3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5C52C34-D825-4741-B11A-9980ADF7DF33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8595FE7-AA2A-450F-AD8C-0F5ACBF4B744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D6E36F-460E-43DA-8B8B-72441B6C50A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71CCCB-366A-42B9-BFAE-A1E9E8D8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6AB3D4-0D51-49A1-BC44-8ECEBF06FFCF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027664-D483-4B0B-85A0-7CFC8D2BD256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9587C4-A3AC-4EA4-A676-0C294C458F59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942392-5364-4FCA-959A-94F5855C3919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E3A45B-A5AF-4546-94C7-D57A7735718F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12D4C4-E90F-4D68-A7C0-BA478E531655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D37F3B-30D6-4F4E-8EC3-17B1EBDA1384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D339B8-75F0-4E08-8CD7-2B0BA519E72B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90E101-555C-4F5F-A50F-96113FAAE12D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73BF4B-4E30-46FE-AF0E-3B43E65EF15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F77A1B-414C-418A-891A-AFCD05A2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52A569-D65F-4069-938C-57FC91B1B02D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1B8092B-7673-493A-984C-DAE2AAF84E7D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7C22C0C-2DF1-47BF-A66C-03D125BCE449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090B94A-C483-4F8F-B7C3-4DF01969D7DE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88243DB-54B5-454E-B692-55BCF5D482A5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257110B-3B85-422A-B3F7-5F0A09184D39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A89AD0A-E261-4D09-857A-F306E180ED75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E27D548-E9AD-439C-884F-06EE0BC4C724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3F8038E-58CF-4BA0-A523-BFCB926A33AF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3F315F8-7D90-4574-9BD8-A6299A7E3A5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4D8010-2EA7-45EA-BBB8-0A880463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65B59D7-E35C-47D7-B2A6-AB5114A9EE59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1EE93E1-5E0B-4AEC-A16F-B504CF5387D9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5BFF644-469F-438C-B144-980B8F6DC65B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2E27BD5-14D0-46AB-B74E-3D5A9C5AA2E5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7377569-273C-4418-A2BA-BBD0D446E901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983B957-D923-4DC7-A369-504FB4A42CF1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5DF0D61-4820-4768-8930-4109CC853127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5846904-6F9E-490D-A14A-166FE366131E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6B2059F-E3D0-4C0E-929D-AB4EE13AADA5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2EE2211-635E-4BC9-B897-BE3A190852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1FE24-D3AF-43A1-9A94-95F9A2D3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ED8448-7811-41AE-A6D4-FF522FE1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5E5424D-266C-4F7A-A46C-DAA731EC34F3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36DB9A1-72E9-4CEA-B9D2-3FC4AFE6CBA7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24F96E5-E403-4AC1-AE3D-18085D9850AB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AC9ABCA-77B4-416A-A9BD-D2FE17F69A1F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3F56A05-1293-44CF-84D3-18FFD13A202C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84505D-1037-4436-BDF8-32741686637E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BC237D-7963-4E84-8DB5-8F14A5184CDF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073C0F-F7A9-474B-8E1B-A33309A56572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95C69B-DFA0-4CB8-82B7-DAAA922A6347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D013D8-7860-4E7A-8A31-2819F06667F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F64801-544B-4761-AAA8-2AB09A8A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35867C-3473-4C24-90E9-5338CA19CEF5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3A4664-01FC-4201-AEA8-0257AAECB7B5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8C9FA6-231E-4949-A4BE-08B1DF7BA244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8BFE61-DDFF-4F07-99C0-641075D1DD41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4565E0-7286-4D00-BA35-9FD3E4213FE4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680B79-1FF8-4987-AC41-1AA30DCF6534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8A9B8F-7885-42F2-B5D9-208248C8286D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61BE9FA-C919-4D41-9C69-AD97C37F21CD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E71BB38-1F22-4392-A845-A1D7E56B84D3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F29190D-5B0E-4E41-82FC-90961AF519E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B723FB-D07C-4F8D-ADBA-819A7FF6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076EF28-7892-434B-9184-1F83A45242AF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D21A5BA-B6F2-4FAC-B324-B3C8199C63B3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8766229-354A-4A0F-8880-2FCA29B06032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AA2022E-8659-4E4F-8671-96AD295B06BB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B5C4B68-A3AB-4FE9-B909-C5DC5BBC3923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90E9465-CC56-44C7-917A-357D999585EB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FD61D2B-8A4D-4581-82BF-7F56805768A3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84C03D5-5315-4581-BB77-0045D739B866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74BDBD6-2742-4613-8BEB-51114579B6DB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79B59ED-1456-4F81-B163-0B0D3E1CD3B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41A1E6-2612-4F23-860E-623D32EE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1C52D80-6941-4C5E-B4C8-3233A6E97F36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8F33B7C-9310-45F7-ADC2-77C72A826395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97AB10C-F554-488C-B558-C115DDCC312E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34FB232-E405-4FFB-A3BD-F86B6381CB93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21043B1-5E47-47EA-874A-8D9FC2F273C6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BBB2550-F025-481C-A327-9C5BBB0A6B85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EC96147-888C-4240-BA63-1BDBFC2F3F79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93848CF-46EE-4AD8-8A91-A8353C1FB426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EF5B22D-873E-4F23-A9BF-77FC98969206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69C7D16-86D8-4624-B956-305D48651A3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BFA785-38D1-46A6-8E4B-AD08BC8532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EE27AC3-D1A7-44DC-B1AB-961D51B47020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CDA8F2-943F-4F40-8DA0-2E888EE57139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2B9D46-514E-4E5E-A514-BEF78C76A94A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283B8F-D5AB-4B71-A988-79BB5BD9CB26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1BC26A-4226-432F-9B38-DE92CBC85659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D500C7-ED44-432F-A930-855D4D636901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584056-B272-46CB-BA5D-F5F55CACB76B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A11289-79A4-44CC-BE02-6F0FAB6F8953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007E33-ED0B-4C2A-B97E-F0194784F9C3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749B72-77E2-459E-A474-3244729CF89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7BCEB9-8AE0-4008-8B5A-B351371E0AE5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CE130D-28A8-4BD8-B8BA-D1DA916801D1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1859F5-67BC-431E-ABB8-3FDB947E9553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75A3C22-3F30-46FE-BDEC-266EC28881E3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D6A9F45-9ECE-4E65-AFEF-6F8A13AB0871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71956C1-BB81-4A4D-8041-B8E9A77320A7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0CB227B-2E88-468D-8591-1ECDC069E84D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8763632-2655-4152-900F-99E537341206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E79125D-59EC-41BE-AC89-966F2990A8D1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25367F5-AEDE-4DD6-9064-7937EE3BBB5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D784CF7-0C1F-42AD-A3AA-95DEE8EAC84B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597E5DD-20FB-471C-8E3F-E3735C4973EF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26B47AB-181F-491C-BA62-3A1C7413D1EC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EEE2F5E-D23C-4F26-A2AE-207701405A4A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D78E6C9-CB66-4E79-B3CA-320D4EB45B52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019D1B3-52B3-41DD-9B8F-37D1C4ADEA34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13221FB-74F4-4E81-B97A-40AFA8127AE8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A19D2A2-20C1-452D-8BA0-37E88D303732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49DCFA5-5152-477D-AE63-8E6184BC3DE1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1487191-1A00-4869-BD2A-CCBA36EE182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5EF500D-D2DC-4D70-98D1-48D19228BE7C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95B3D4F-1BA7-499D-8E24-50F7FFC6330E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75D3DCF-7826-4962-81AA-21B31326D7E9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BE5DA66-4E79-4299-87BE-E02BE17AD063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60A368A-7759-4B6D-88B0-C6A5A5A32346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FFB6856-B320-41E3-B808-90E70B053D6D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A4AC218-7003-47FB-BEC9-52538CEBC553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C1DB80-2370-424D-843E-08AEB712A28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7BD80C-641F-4C94-A3C9-F67297A93DDF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C239F6-F25F-45FE-9FB0-C98BDF8993FD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1B16A2-C7D0-4818-8DA6-3A68B1097114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6A1376-C62F-43EA-A678-87F2C6B46766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F3D8A5-881D-4522-92D8-31DE69A3427D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1477A0-8BFE-4908-88FE-4302B064060B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C9793C-5FBC-4151-B613-B0D5450BDD97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3C77FE-070C-4F7E-A7E9-59988DD66497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0CB4F6-D80C-4799-9C08-1B84D7BB3C7C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F009C8-7F83-4F36-8465-76D0BBE1CE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B0F3E-34D6-4976-88CD-B1ACC4AD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1ABE40-0B85-4695-901A-A370CA605B35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63F9A09-3EA0-40D8-8168-C22B88A6C1D6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F01BB25-9767-44FD-86A6-3479D555DB94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AE39C90-0CA5-4029-9F58-DE0F5A80E599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7F5E3E6-4052-4732-9DD5-748E38E0F239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5D645BA-7E5E-440D-8FD4-289A8D37B470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6DEA0D8-BDC5-4716-A42F-00ECA218A56F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919D8A5-CB0A-4EB1-AC8F-77EA0C59938E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52788C1-8816-4D8B-B98C-0CF0177A23A5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AE65D5E-6D73-44B1-927D-9A7230499F7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781B30C-6229-4AB9-84CD-470870D40F6F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2563F9C-8EF7-4909-9BE3-AD54AE679B33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EAD56FB-A441-4B06-9BBF-D8E96C33294F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77D0DE5-92B2-4BB0-9E9A-8302D8B4F989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D3BCA26-1459-4078-96F4-EBE9EB562A06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7EEC483-4A6C-41A3-A6DF-5E1A203A2DE5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8DD8AF7-915F-45E8-8C17-46B33F9DFCE9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4181B82-3A35-441F-95AC-0FF67BB89590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B8D8067-A0E2-4A88-9B7A-861A613FB9B7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5C7469C-F99D-427C-949F-B757BB69B9F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C193BCF-4A01-47F3-B71D-E15C252988B8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4182611-6892-4FEB-B86C-9663454A7B3D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5B187A2-E3A7-4E51-84EE-F38D90E7B79D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2AD6D13-E44B-43D7-8ED0-EA6EE6935133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F491A04-E325-4CE6-BA6A-84B7298B853A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97754C-6E6C-4799-9749-22608FD57F81}" type="slidenum">
              <a:t>&lt;#&gt;</a:t>
            </a:fld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E767A1-6BFB-48F4-A852-7D7F0C3DB674}" type="slidenum">
              <a:t>&lt;#&gt;</a:t>
            </a:fld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FD216B-E186-49ED-98CF-E4507C0D59CC}" type="slidenum">
              <a:t>&lt;#&gt;</a:t>
            </a:fld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18C561-A2A3-4CA0-B812-C52422BFAF7D}" type="slidenum">
              <a:t>&lt;#&gt;</a:t>
            </a:fld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26223B-C77E-45B5-B67C-53E771E44CA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75D331-758B-47ED-8B6E-7044DDE7FF73}" type="slidenum">
              <a:t>&lt;#&gt;</a:t>
            </a:fld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A1E6D0-99DE-4FD1-9D80-E24D7EE6BA85}" type="slidenum">
              <a:t>&lt;#&gt;</a:t>
            </a:fld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36D0EE-0872-4DA9-AAA2-F34A64FEB55B}" type="slidenum">
              <a:t>&lt;#&gt;</a:t>
            </a:fld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11EDCF-1B75-46A2-AAEC-F5FCC7881523}" type="slidenum">
              <a:t>&lt;#&gt;</a:t>
            </a:fld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889DEB-643F-4F8A-B8E8-B648874B74D4}" type="slidenum">
              <a:t>&lt;#&gt;</a:t>
            </a:fld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B31343-FA0A-4F44-B8B7-110544464BD3}" type="slidenum">
              <a:t>&lt;#&gt;</a:t>
            </a:fld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2BF8B2-D779-44AB-B2E9-1F4873215E46}" type="slidenum">
              <a:t>&lt;#&gt;</a:t>
            </a:fld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EA71AA4-3598-4C52-BA1A-5DFF3F6D791A}" type="slidenum">
              <a:t>&lt;#&gt;</a:t>
            </a:fld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E362DB0-3000-4C30-8141-0DF3A796B5C0}" type="slidenum">
              <a:t>&lt;#&gt;</a:t>
            </a:fld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A32ABFB-E5F4-4FC2-BA3E-B6EF426D416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E8A5884-5A06-4635-95C0-D796BCF49737}" type="slidenum">
              <a:t>&lt;#&gt;</a:t>
            </a:fld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163D6EB-08A8-480E-A9DA-5E18EE40D174}" type="slidenum">
              <a:t>&lt;#&gt;</a:t>
            </a:fld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92CCD28-1DA7-4BC6-A0DF-A71A3F7E3B20}" type="slidenum">
              <a:t>&lt;#&gt;</a:t>
            </a:fld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32AA9D5-0CC9-42C9-A6C2-979BA7AA0538}" type="slidenum">
              <a:t>&lt;#&gt;</a:t>
            </a:fld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A60DB86-4D36-4F02-AE98-D637982C46EA}" type="slidenum">
              <a:t>&lt;#&gt;</a:t>
            </a:fld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18405BB-9B78-41A4-86CA-1818932F2897}" type="slidenum">
              <a:t>&lt;#&gt;</a:t>
            </a:fld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C175D46-0338-4106-AA85-0AEF75B093D3}" type="slidenum">
              <a:t>&lt;#&gt;</a:t>
            </a:fld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4641C49-6F42-429F-98DC-F5B877A2E93C}" type="slidenum">
              <a:t>&lt;#&gt;</a:t>
            </a:fld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853A7A4-97F8-49FE-BED8-4B4C119F44DD}" type="slidenum">
              <a:t>&lt;#&gt;</a:t>
            </a:fld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75F308D-F895-416B-8EB4-2ACC0AC5504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080533B-B0E9-45D5-893E-F64E26103EDF}" type="slidenum">
              <a:t>&lt;#&gt;</a:t>
            </a:fld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47D5DBA-423D-42FF-9BD8-F51EC8790CA5}" type="slidenum">
              <a:t>&lt;#&gt;</a:t>
            </a:fld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F03C401-EB80-4327-91CC-A8324B49AA9F}" type="slidenum">
              <a:t>&lt;#&gt;</a:t>
            </a:fld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1A89C75-867E-4B4D-BEDD-49A3CDBBF7E5}" type="slidenum">
              <a:t>&lt;#&gt;</a:t>
            </a:fld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9B23CFE-166C-4D14-A8DE-23A4864E814A}" type="slidenum">
              <a:t>&lt;#&gt;</a:t>
            </a:fld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781D2AC-887F-4A33-B6C2-6E7AAE0BB598}" type="slidenum">
              <a:t>&lt;#&gt;</a:t>
            </a:fld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2203372-CCAD-40AC-ACBF-3A73984EADF7}" type="slidenum">
              <a:t>&lt;#&gt;</a:t>
            </a:fld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B3CCF68-EBF9-4731-9566-597665E45DA8}" type="slidenum">
              <a:t>&lt;#&gt;</a:t>
            </a:fld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022DA4F-230F-4FE4-AFA1-F820C699C8BC}" type="slidenum">
              <a:t>&lt;#&gt;</a:t>
            </a:fld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173B673-CA7A-4727-95DF-E8A8BE5A239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41B7597-3551-4D55-AE85-F6D950AA301B}" type="slidenum">
              <a:t>&lt;#&gt;</a:t>
            </a:fld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637E32-42FB-4FB7-B30B-03CD21E9122E}" type="slidenum">
              <a:t>&lt;#&gt;</a:t>
            </a:fld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9699B0-1FA6-411A-87DF-8CD59248F91F}" type="slidenum">
              <a:t>&lt;#&gt;</a:t>
            </a:fld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739460-8151-492C-AFB0-F8AB0E15EB59}" type="slidenum">
              <a:t>&lt;#&gt;</a:t>
            </a:fld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26DBB0-6267-4DA6-AAFD-C640FE610E17}" type="slidenum">
              <a:t>&lt;#&gt;</a:t>
            </a:fld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F8FAAB-B85D-45EE-BE71-B0E617A94DBB}" type="slidenum">
              <a:t>&lt;#&gt;</a:t>
            </a:fld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32C987-DF93-4068-A7AE-12754A1C5DA5}" type="slidenum">
              <a:t>&lt;#&gt;</a:t>
            </a:fld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7D0A51-CA6D-4D18-BCC7-5737FA47B049}" type="slidenum">
              <a:t>&lt;#&gt;</a:t>
            </a:fld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54466A-AFED-44DB-BB2C-7914999F0400}" type="slidenum">
              <a:t>&lt;#&gt;</a:t>
            </a:fld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3BEB05-0147-4729-B991-6261A187DD7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374A4-390B-41E6-AE95-445E1E199AE3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EB8AA4-5288-4446-AC2D-3B05A91B4FF2}" type="slidenum">
              <a:t>&lt;#&gt;</a:t>
            </a:fld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D3AB10-99BD-40E3-ABE5-2CAF304C3CE3}" type="slidenum">
              <a:t>&lt;#&gt;</a:t>
            </a:fld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CAF3B8-BEC4-4C14-8C17-F2EA93453B01}" type="slidenum">
              <a:t>&lt;#&gt;</a:t>
            </a:fld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32F721F-EC07-4A71-B5B1-FDEE3393D5BC}" type="slidenum">
              <a:t>&lt;#&gt;</a:t>
            </a:fld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FBFDEC4-04F9-41AD-B055-98791CC4CF6C}" type="slidenum">
              <a:t>&lt;#&gt;</a:t>
            </a:fld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AB60D16-74A5-44F5-9F87-4D7DC1E6EDF3}" type="slidenum">
              <a:t>&lt;#&gt;</a:t>
            </a:fld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257DD2B-47E4-4923-B72F-8A7998818B59}" type="slidenum">
              <a:t>&lt;#&gt;</a:t>
            </a:fld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B670B0E-B861-4547-9B4C-6DAF53A49952}" type="slidenum">
              <a:t>&lt;#&gt;</a:t>
            </a:fld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B7E9364-2D60-4B6A-92EA-CA3A0830E206}" type="slidenum">
              <a:t>&lt;#&gt;</a:t>
            </a:fld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A0E7D06-E667-4F9E-9F09-77034D36E83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F3163-30AC-402D-B095-01399E579B34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009CDAF-462F-4CB0-AC39-BF5494268B64}" type="slidenum">
              <a:t>&lt;#&gt;</a:t>
            </a:fld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5AC7A2D-F713-4D26-B48F-4BBC276FBDC4}" type="slidenum">
              <a:t>&lt;#&gt;</a:t>
            </a:fld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014A449-8913-44A3-A2E1-AF596E9DE040}" type="slidenum">
              <a:t>&lt;#&gt;</a:t>
            </a:fld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4B09970-42BA-42CA-A0A7-220BD4DCCC55}" type="slidenum">
              <a:t>&lt;#&gt;</a:t>
            </a:fld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8BFED58-6081-4EEB-A694-1672CCFA3E29}" type="slidenum">
              <a:t>&lt;#&gt;</a:t>
            </a:fld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770E28B-3EF9-4217-8434-DB558CD052EA}" type="slidenum">
              <a:t>&lt;#&gt;</a:t>
            </a:fld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6C15BD7-EBF3-46DC-8BB6-F37C2747A9C1}" type="slidenum">
              <a:t>&lt;#&gt;</a:t>
            </a:fld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139B0CA-1BE5-4EE5-9212-171D0F9B4AC5}" type="slidenum">
              <a:t>&lt;#&gt;</a:t>
            </a:fld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1341EF4-FF9E-49EA-A7A4-53E0E2631F67}" type="slidenum">
              <a:t>&lt;#&gt;</a:t>
            </a:fld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C728D69-948B-4DB3-A31E-7AE0F034CD2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62B0D-04CE-465D-8C08-497BB00744C7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CFA8AF2-E0EE-4C8D-8386-D4DD41A01D1F}" type="slidenum">
              <a:t>&lt;#&gt;</a:t>
            </a:fld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D9CB4CF-797F-49BD-A201-14055564D23A}" type="slidenum">
              <a:t>&lt;#&gt;</a:t>
            </a:fld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21A27B5-D83C-4D2A-B04A-A504DB277F9D}" type="slidenum">
              <a:t>&lt;#&gt;</a:t>
            </a:fld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549977C-8E78-4A95-8FF4-544FF952B5D7}" type="slidenum">
              <a:t>&lt;#&gt;</a:t>
            </a:fld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498AAB4-B2A2-4B07-8909-0C57863DAF91}" type="slidenum">
              <a:t>&lt;#&gt;</a:t>
            </a:fld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C9242E4-65CD-4793-BD61-8C44A086C5B9}" type="slidenum">
              <a:t>&lt;#&gt;</a:t>
            </a:fld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360BE01-7507-4D04-B23B-E58C27B6954E}" type="slidenum">
              <a:t>&lt;#&gt;</a:t>
            </a:fld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A56811-05A9-4451-B724-E9CABF3FC54F}" type="slidenum">
              <a:t>&lt;#&gt;</a:t>
            </a:fld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500641-82E6-4E9A-BBC6-67E2A21976D5}" type="slidenum">
              <a:t>&lt;#&gt;</a:t>
            </a:fld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5654AB-BDB2-4EDF-ADEE-F12BAEF104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3.xml"/><Relationship Id="rId5" Type="http://schemas.openxmlformats.org/officeDocument/2006/relationships/slideLayout" Target="../slideLayouts/slideLayout734.xml"/><Relationship Id="rId6" Type="http://schemas.openxmlformats.org/officeDocument/2006/relationships/slideLayout" Target="../slideLayouts/slideLayout735.xml"/><Relationship Id="rId7" Type="http://schemas.openxmlformats.org/officeDocument/2006/relationships/slideLayout" Target="../slideLayouts/slideLayout736.xml"/><Relationship Id="rId8" Type="http://schemas.openxmlformats.org/officeDocument/2006/relationships/slideLayout" Target="../slideLayouts/slideLayout737.xml"/><Relationship Id="rId9" Type="http://schemas.openxmlformats.org/officeDocument/2006/relationships/slideLayout" Target="../slideLayouts/slideLayout738.xml"/><Relationship Id="rId10" Type="http://schemas.openxmlformats.org/officeDocument/2006/relationships/slideLayout" Target="../slideLayouts/slideLayout739.xml"/><Relationship Id="rId11" Type="http://schemas.openxmlformats.org/officeDocument/2006/relationships/slideLayout" Target="../slideLayouts/slideLayout740.xml"/><Relationship Id="rId12" Type="http://schemas.openxmlformats.org/officeDocument/2006/relationships/slideLayout" Target="../slideLayouts/slideLayout741.xml"/><Relationship Id="rId13" Type="http://schemas.openxmlformats.org/officeDocument/2006/relationships/slideLayout" Target="../slideLayouts/slideLayout742.xml"/><Relationship Id="rId14" Type="http://schemas.openxmlformats.org/officeDocument/2006/relationships/slideLayout" Target="../slideLayouts/slideLayout743.xml"/><Relationship Id="rId15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69.xml"/><Relationship Id="rId5" Type="http://schemas.openxmlformats.org/officeDocument/2006/relationships/slideLayout" Target="../slideLayouts/slideLayout770.xml"/><Relationship Id="rId6" Type="http://schemas.openxmlformats.org/officeDocument/2006/relationships/slideLayout" Target="../slideLayouts/slideLayout771.xml"/><Relationship Id="rId7" Type="http://schemas.openxmlformats.org/officeDocument/2006/relationships/slideLayout" Target="../slideLayouts/slideLayout772.xml"/><Relationship Id="rId8" Type="http://schemas.openxmlformats.org/officeDocument/2006/relationships/slideLayout" Target="../slideLayouts/slideLayout773.xml"/><Relationship Id="rId9" Type="http://schemas.openxmlformats.org/officeDocument/2006/relationships/slideLayout" Target="../slideLayouts/slideLayout774.xml"/><Relationship Id="rId10" Type="http://schemas.openxmlformats.org/officeDocument/2006/relationships/slideLayout" Target="../slideLayouts/slideLayout775.xml"/><Relationship Id="rId11" Type="http://schemas.openxmlformats.org/officeDocument/2006/relationships/slideLayout" Target="../slideLayouts/slideLayout776.xml"/><Relationship Id="rId12" Type="http://schemas.openxmlformats.org/officeDocument/2006/relationships/slideLayout" Target="../slideLayouts/slideLayout777.xml"/><Relationship Id="rId13" Type="http://schemas.openxmlformats.org/officeDocument/2006/relationships/slideLayout" Target="../slideLayouts/slideLayout778.xml"/><Relationship Id="rId14" Type="http://schemas.openxmlformats.org/officeDocument/2006/relationships/slideLayout" Target="../slideLayouts/slideLayout779.xml"/><Relationship Id="rId15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81.xml"/><Relationship Id="rId5" Type="http://schemas.openxmlformats.org/officeDocument/2006/relationships/slideLayout" Target="../slideLayouts/slideLayout782.xml"/><Relationship Id="rId6" Type="http://schemas.openxmlformats.org/officeDocument/2006/relationships/slideLayout" Target="../slideLayouts/slideLayout783.xml"/><Relationship Id="rId7" Type="http://schemas.openxmlformats.org/officeDocument/2006/relationships/slideLayout" Target="../slideLayouts/slideLayout784.xml"/><Relationship Id="rId8" Type="http://schemas.openxmlformats.org/officeDocument/2006/relationships/slideLayout" Target="../slideLayouts/slideLayout785.xml"/><Relationship Id="rId9" Type="http://schemas.openxmlformats.org/officeDocument/2006/relationships/slideLayout" Target="../slideLayouts/slideLayout786.xml"/><Relationship Id="rId10" Type="http://schemas.openxmlformats.org/officeDocument/2006/relationships/slideLayout" Target="../slideLayouts/slideLayout787.xml"/><Relationship Id="rId11" Type="http://schemas.openxmlformats.org/officeDocument/2006/relationships/slideLayout" Target="../slideLayouts/slideLayout788.xml"/><Relationship Id="rId12" Type="http://schemas.openxmlformats.org/officeDocument/2006/relationships/slideLayout" Target="../slideLayouts/slideLayout789.xml"/><Relationship Id="rId13" Type="http://schemas.openxmlformats.org/officeDocument/2006/relationships/slideLayout" Target="../slideLayouts/slideLayout790.xml"/><Relationship Id="rId14" Type="http://schemas.openxmlformats.org/officeDocument/2006/relationships/slideLayout" Target="../slideLayouts/slideLayout791.xml"/><Relationship Id="rId15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93.xml"/><Relationship Id="rId5" Type="http://schemas.openxmlformats.org/officeDocument/2006/relationships/slideLayout" Target="../slideLayouts/slideLayout794.xml"/><Relationship Id="rId6" Type="http://schemas.openxmlformats.org/officeDocument/2006/relationships/slideLayout" Target="../slideLayouts/slideLayout795.xml"/><Relationship Id="rId7" Type="http://schemas.openxmlformats.org/officeDocument/2006/relationships/slideLayout" Target="../slideLayouts/slideLayout796.xml"/><Relationship Id="rId8" Type="http://schemas.openxmlformats.org/officeDocument/2006/relationships/slideLayout" Target="../slideLayouts/slideLayout797.xml"/><Relationship Id="rId9" Type="http://schemas.openxmlformats.org/officeDocument/2006/relationships/slideLayout" Target="../slideLayouts/slideLayout798.xml"/><Relationship Id="rId10" Type="http://schemas.openxmlformats.org/officeDocument/2006/relationships/slideLayout" Target="../slideLayouts/slideLayout799.xml"/><Relationship Id="rId11" Type="http://schemas.openxmlformats.org/officeDocument/2006/relationships/slideLayout" Target="../slideLayouts/slideLayout800.xml"/><Relationship Id="rId12" Type="http://schemas.openxmlformats.org/officeDocument/2006/relationships/slideLayout" Target="../slideLayouts/slideLayout801.xml"/><Relationship Id="rId13" Type="http://schemas.openxmlformats.org/officeDocument/2006/relationships/slideLayout" Target="../slideLayouts/slideLayout802.xml"/><Relationship Id="rId14" Type="http://schemas.openxmlformats.org/officeDocument/2006/relationships/slideLayout" Target="../slideLayouts/slideLayout803.xml"/><Relationship Id="rId15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05.xml"/><Relationship Id="rId5" Type="http://schemas.openxmlformats.org/officeDocument/2006/relationships/slideLayout" Target="../slideLayouts/slideLayout806.xml"/><Relationship Id="rId6" Type="http://schemas.openxmlformats.org/officeDocument/2006/relationships/slideLayout" Target="../slideLayouts/slideLayout807.xml"/><Relationship Id="rId7" Type="http://schemas.openxmlformats.org/officeDocument/2006/relationships/slideLayout" Target="../slideLayouts/slideLayout808.xml"/><Relationship Id="rId8" Type="http://schemas.openxmlformats.org/officeDocument/2006/relationships/slideLayout" Target="../slideLayouts/slideLayout809.xml"/><Relationship Id="rId9" Type="http://schemas.openxmlformats.org/officeDocument/2006/relationships/slideLayout" Target="../slideLayouts/slideLayout810.xml"/><Relationship Id="rId10" Type="http://schemas.openxmlformats.org/officeDocument/2006/relationships/slideLayout" Target="../slideLayouts/slideLayout811.xml"/><Relationship Id="rId11" Type="http://schemas.openxmlformats.org/officeDocument/2006/relationships/slideLayout" Target="../slideLayouts/slideLayout812.xml"/><Relationship Id="rId12" Type="http://schemas.openxmlformats.org/officeDocument/2006/relationships/slideLayout" Target="../slideLayouts/slideLayout813.xml"/><Relationship Id="rId13" Type="http://schemas.openxmlformats.org/officeDocument/2006/relationships/slideLayout" Target="../slideLayouts/slideLayout814.xml"/><Relationship Id="rId14" Type="http://schemas.openxmlformats.org/officeDocument/2006/relationships/slideLayout" Target="../slideLayouts/slideLayout815.xml"/><Relationship Id="rId15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29.xml"/><Relationship Id="rId5" Type="http://schemas.openxmlformats.org/officeDocument/2006/relationships/slideLayout" Target="../slideLayouts/slideLayout830.xml"/><Relationship Id="rId6" Type="http://schemas.openxmlformats.org/officeDocument/2006/relationships/slideLayout" Target="../slideLayouts/slideLayout831.xml"/><Relationship Id="rId7" Type="http://schemas.openxmlformats.org/officeDocument/2006/relationships/slideLayout" Target="../slideLayouts/slideLayout832.xml"/><Relationship Id="rId8" Type="http://schemas.openxmlformats.org/officeDocument/2006/relationships/slideLayout" Target="../slideLayouts/slideLayout833.xml"/><Relationship Id="rId9" Type="http://schemas.openxmlformats.org/officeDocument/2006/relationships/slideLayout" Target="../slideLayouts/slideLayout834.xml"/><Relationship Id="rId10" Type="http://schemas.openxmlformats.org/officeDocument/2006/relationships/slideLayout" Target="../slideLayouts/slideLayout835.xml"/><Relationship Id="rId11" Type="http://schemas.openxmlformats.org/officeDocument/2006/relationships/slideLayout" Target="../slideLayouts/slideLayout836.xml"/><Relationship Id="rId12" Type="http://schemas.openxmlformats.org/officeDocument/2006/relationships/slideLayout" Target="../slideLayouts/slideLayout837.xml"/><Relationship Id="rId13" Type="http://schemas.openxmlformats.org/officeDocument/2006/relationships/slideLayout" Target="../slideLayouts/slideLayout838.xml"/><Relationship Id="rId14" Type="http://schemas.openxmlformats.org/officeDocument/2006/relationships/slideLayout" Target="../slideLayouts/slideLayout839.xml"/><Relationship Id="rId15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77.xml"/><Relationship Id="rId5" Type="http://schemas.openxmlformats.org/officeDocument/2006/relationships/slideLayout" Target="../slideLayouts/slideLayout878.xml"/><Relationship Id="rId6" Type="http://schemas.openxmlformats.org/officeDocument/2006/relationships/slideLayout" Target="../slideLayouts/slideLayout879.xml"/><Relationship Id="rId7" Type="http://schemas.openxmlformats.org/officeDocument/2006/relationships/slideLayout" Target="../slideLayouts/slideLayout880.xml"/><Relationship Id="rId8" Type="http://schemas.openxmlformats.org/officeDocument/2006/relationships/slideLayout" Target="../slideLayouts/slideLayout881.xml"/><Relationship Id="rId9" Type="http://schemas.openxmlformats.org/officeDocument/2006/relationships/slideLayout" Target="../slideLayouts/slideLayout882.xml"/><Relationship Id="rId10" Type="http://schemas.openxmlformats.org/officeDocument/2006/relationships/slideLayout" Target="../slideLayouts/slideLayout883.xml"/><Relationship Id="rId11" Type="http://schemas.openxmlformats.org/officeDocument/2006/relationships/slideLayout" Target="../slideLayouts/slideLayout884.xml"/><Relationship Id="rId12" Type="http://schemas.openxmlformats.org/officeDocument/2006/relationships/slideLayout" Target="../slideLayouts/slideLayout885.xml"/><Relationship Id="rId13" Type="http://schemas.openxmlformats.org/officeDocument/2006/relationships/slideLayout" Target="../slideLayouts/slideLayout886.xml"/><Relationship Id="rId14" Type="http://schemas.openxmlformats.org/officeDocument/2006/relationships/slideLayout" Target="../slideLayouts/slideLayout887.xml"/><Relationship Id="rId15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89.xml"/><Relationship Id="rId5" Type="http://schemas.openxmlformats.org/officeDocument/2006/relationships/slideLayout" Target="../slideLayouts/slideLayout890.xml"/><Relationship Id="rId6" Type="http://schemas.openxmlformats.org/officeDocument/2006/relationships/slideLayout" Target="../slideLayouts/slideLayout891.xml"/><Relationship Id="rId7" Type="http://schemas.openxmlformats.org/officeDocument/2006/relationships/slideLayout" Target="../slideLayouts/slideLayout892.xml"/><Relationship Id="rId8" Type="http://schemas.openxmlformats.org/officeDocument/2006/relationships/slideLayout" Target="../slideLayouts/slideLayout893.xml"/><Relationship Id="rId9" Type="http://schemas.openxmlformats.org/officeDocument/2006/relationships/slideLayout" Target="../slideLayouts/slideLayout894.xml"/><Relationship Id="rId10" Type="http://schemas.openxmlformats.org/officeDocument/2006/relationships/slideLayout" Target="../slideLayouts/slideLayout895.xml"/><Relationship Id="rId11" Type="http://schemas.openxmlformats.org/officeDocument/2006/relationships/slideLayout" Target="../slideLayouts/slideLayout896.xml"/><Relationship Id="rId12" Type="http://schemas.openxmlformats.org/officeDocument/2006/relationships/slideLayout" Target="../slideLayouts/slideLayout897.xml"/><Relationship Id="rId13" Type="http://schemas.openxmlformats.org/officeDocument/2006/relationships/slideLayout" Target="../slideLayouts/slideLayout898.xml"/><Relationship Id="rId14" Type="http://schemas.openxmlformats.org/officeDocument/2006/relationships/slideLayout" Target="../slideLayouts/slideLayout899.xml"/><Relationship Id="rId15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01.xml"/><Relationship Id="rId5" Type="http://schemas.openxmlformats.org/officeDocument/2006/relationships/slideLayout" Target="../slideLayouts/slideLayout902.xml"/><Relationship Id="rId6" Type="http://schemas.openxmlformats.org/officeDocument/2006/relationships/slideLayout" Target="../slideLayouts/slideLayout903.xml"/><Relationship Id="rId7" Type="http://schemas.openxmlformats.org/officeDocument/2006/relationships/slideLayout" Target="../slideLayouts/slideLayout904.xml"/><Relationship Id="rId8" Type="http://schemas.openxmlformats.org/officeDocument/2006/relationships/slideLayout" Target="../slideLayouts/slideLayout905.xml"/><Relationship Id="rId9" Type="http://schemas.openxmlformats.org/officeDocument/2006/relationships/slideLayout" Target="../slideLayouts/slideLayout906.xml"/><Relationship Id="rId10" Type="http://schemas.openxmlformats.org/officeDocument/2006/relationships/slideLayout" Target="../slideLayouts/slideLayout907.xml"/><Relationship Id="rId11" Type="http://schemas.openxmlformats.org/officeDocument/2006/relationships/slideLayout" Target="../slideLayouts/slideLayout908.xml"/><Relationship Id="rId12" Type="http://schemas.openxmlformats.org/officeDocument/2006/relationships/slideLayout" Target="../slideLayouts/slideLayout909.xml"/><Relationship Id="rId13" Type="http://schemas.openxmlformats.org/officeDocument/2006/relationships/slideLayout" Target="../slideLayouts/slideLayout910.xml"/><Relationship Id="rId14" Type="http://schemas.openxmlformats.org/officeDocument/2006/relationships/slideLayout" Target="../slideLayouts/slideLayout911.xml"/><Relationship Id="rId15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13.xml"/><Relationship Id="rId5" Type="http://schemas.openxmlformats.org/officeDocument/2006/relationships/slideLayout" Target="../slideLayouts/slideLayout914.xml"/><Relationship Id="rId6" Type="http://schemas.openxmlformats.org/officeDocument/2006/relationships/slideLayout" Target="../slideLayouts/slideLayout915.xml"/><Relationship Id="rId7" Type="http://schemas.openxmlformats.org/officeDocument/2006/relationships/slideLayout" Target="../slideLayouts/slideLayout916.xml"/><Relationship Id="rId8" Type="http://schemas.openxmlformats.org/officeDocument/2006/relationships/slideLayout" Target="../slideLayouts/slideLayout917.xml"/><Relationship Id="rId9" Type="http://schemas.openxmlformats.org/officeDocument/2006/relationships/slideLayout" Target="../slideLayouts/slideLayout918.xml"/><Relationship Id="rId10" Type="http://schemas.openxmlformats.org/officeDocument/2006/relationships/slideLayout" Target="../slideLayouts/slideLayout919.xml"/><Relationship Id="rId11" Type="http://schemas.openxmlformats.org/officeDocument/2006/relationships/slideLayout" Target="../slideLayouts/slideLayout920.xml"/><Relationship Id="rId12" Type="http://schemas.openxmlformats.org/officeDocument/2006/relationships/slideLayout" Target="../slideLayouts/slideLayout921.xml"/><Relationship Id="rId13" Type="http://schemas.openxmlformats.org/officeDocument/2006/relationships/slideLayout" Target="../slideLayouts/slideLayout922.xml"/><Relationship Id="rId14" Type="http://schemas.openxmlformats.org/officeDocument/2006/relationships/slideLayout" Target="../slideLayouts/slideLayout923.xml"/><Relationship Id="rId15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25.xml"/><Relationship Id="rId5" Type="http://schemas.openxmlformats.org/officeDocument/2006/relationships/slideLayout" Target="../slideLayouts/slideLayout926.xml"/><Relationship Id="rId6" Type="http://schemas.openxmlformats.org/officeDocument/2006/relationships/slideLayout" Target="../slideLayouts/slideLayout927.xml"/><Relationship Id="rId7" Type="http://schemas.openxmlformats.org/officeDocument/2006/relationships/slideLayout" Target="../slideLayouts/slideLayout928.xml"/><Relationship Id="rId8" Type="http://schemas.openxmlformats.org/officeDocument/2006/relationships/slideLayout" Target="../slideLayouts/slideLayout929.xml"/><Relationship Id="rId9" Type="http://schemas.openxmlformats.org/officeDocument/2006/relationships/slideLayout" Target="../slideLayouts/slideLayout930.xml"/><Relationship Id="rId10" Type="http://schemas.openxmlformats.org/officeDocument/2006/relationships/slideLayout" Target="../slideLayouts/slideLayout931.xml"/><Relationship Id="rId11" Type="http://schemas.openxmlformats.org/officeDocument/2006/relationships/slideLayout" Target="../slideLayouts/slideLayout932.xml"/><Relationship Id="rId12" Type="http://schemas.openxmlformats.org/officeDocument/2006/relationships/slideLayout" Target="../slideLayouts/slideLayout933.xml"/><Relationship Id="rId13" Type="http://schemas.openxmlformats.org/officeDocument/2006/relationships/slideLayout" Target="../slideLayouts/slideLayout934.xml"/><Relationship Id="rId14" Type="http://schemas.openxmlformats.org/officeDocument/2006/relationships/slideLayout" Target="../slideLayouts/slideLayout935.xml"/><Relationship Id="rId15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37.xml"/><Relationship Id="rId5" Type="http://schemas.openxmlformats.org/officeDocument/2006/relationships/slideLayout" Target="../slideLayouts/slideLayout938.xml"/><Relationship Id="rId6" Type="http://schemas.openxmlformats.org/officeDocument/2006/relationships/slideLayout" Target="../slideLayouts/slideLayout939.xml"/><Relationship Id="rId7" Type="http://schemas.openxmlformats.org/officeDocument/2006/relationships/slideLayout" Target="../slideLayouts/slideLayout940.xml"/><Relationship Id="rId8" Type="http://schemas.openxmlformats.org/officeDocument/2006/relationships/slideLayout" Target="../slideLayouts/slideLayout941.xml"/><Relationship Id="rId9" Type="http://schemas.openxmlformats.org/officeDocument/2006/relationships/slideLayout" Target="../slideLayouts/slideLayout942.xml"/><Relationship Id="rId10" Type="http://schemas.openxmlformats.org/officeDocument/2006/relationships/slideLayout" Target="../slideLayouts/slideLayout943.xml"/><Relationship Id="rId11" Type="http://schemas.openxmlformats.org/officeDocument/2006/relationships/slideLayout" Target="../slideLayouts/slideLayout944.xml"/><Relationship Id="rId12" Type="http://schemas.openxmlformats.org/officeDocument/2006/relationships/slideLayout" Target="../slideLayouts/slideLayout945.xml"/><Relationship Id="rId13" Type="http://schemas.openxmlformats.org/officeDocument/2006/relationships/slideLayout" Target="../slideLayouts/slideLayout946.xml"/><Relationship Id="rId14" Type="http://schemas.openxmlformats.org/officeDocument/2006/relationships/slideLayout" Target="../slideLayouts/slideLayout947.xml"/><Relationship Id="rId15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49.xml"/><Relationship Id="rId5" Type="http://schemas.openxmlformats.org/officeDocument/2006/relationships/slideLayout" Target="../slideLayouts/slideLayout950.xml"/><Relationship Id="rId6" Type="http://schemas.openxmlformats.org/officeDocument/2006/relationships/slideLayout" Target="../slideLayouts/slideLayout951.xml"/><Relationship Id="rId7" Type="http://schemas.openxmlformats.org/officeDocument/2006/relationships/slideLayout" Target="../slideLayouts/slideLayout952.xml"/><Relationship Id="rId8" Type="http://schemas.openxmlformats.org/officeDocument/2006/relationships/slideLayout" Target="../slideLayouts/slideLayout953.xml"/><Relationship Id="rId9" Type="http://schemas.openxmlformats.org/officeDocument/2006/relationships/slideLayout" Target="../slideLayouts/slideLayout954.xml"/><Relationship Id="rId10" Type="http://schemas.openxmlformats.org/officeDocument/2006/relationships/slideLayout" Target="../slideLayouts/slideLayout955.xml"/><Relationship Id="rId11" Type="http://schemas.openxmlformats.org/officeDocument/2006/relationships/slideLayout" Target="../slideLayouts/slideLayout956.xml"/><Relationship Id="rId12" Type="http://schemas.openxmlformats.org/officeDocument/2006/relationships/slideLayout" Target="../slideLayouts/slideLayout957.xml"/><Relationship Id="rId13" Type="http://schemas.openxmlformats.org/officeDocument/2006/relationships/slideLayout" Target="../slideLayouts/slideLayout958.xml"/><Relationship Id="rId14" Type="http://schemas.openxmlformats.org/officeDocument/2006/relationships/slideLayout" Target="../slideLayouts/slideLayout959.xml"/><Relationship Id="rId15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61.xml"/><Relationship Id="rId5" Type="http://schemas.openxmlformats.org/officeDocument/2006/relationships/slideLayout" Target="../slideLayouts/slideLayout962.xml"/><Relationship Id="rId6" Type="http://schemas.openxmlformats.org/officeDocument/2006/relationships/slideLayout" Target="../slideLayouts/slideLayout963.xml"/><Relationship Id="rId7" Type="http://schemas.openxmlformats.org/officeDocument/2006/relationships/slideLayout" Target="../slideLayouts/slideLayout964.xml"/><Relationship Id="rId8" Type="http://schemas.openxmlformats.org/officeDocument/2006/relationships/slideLayout" Target="../slideLayouts/slideLayout965.xml"/><Relationship Id="rId9" Type="http://schemas.openxmlformats.org/officeDocument/2006/relationships/slideLayout" Target="../slideLayouts/slideLayout966.xml"/><Relationship Id="rId10" Type="http://schemas.openxmlformats.org/officeDocument/2006/relationships/slideLayout" Target="../slideLayouts/slideLayout967.xml"/><Relationship Id="rId11" Type="http://schemas.openxmlformats.org/officeDocument/2006/relationships/slideLayout" Target="../slideLayouts/slideLayout968.xml"/><Relationship Id="rId12" Type="http://schemas.openxmlformats.org/officeDocument/2006/relationships/slideLayout" Target="../slideLayouts/slideLayout969.xml"/><Relationship Id="rId13" Type="http://schemas.openxmlformats.org/officeDocument/2006/relationships/slideLayout" Target="../slideLayouts/slideLayout970.xml"/><Relationship Id="rId14" Type="http://schemas.openxmlformats.org/officeDocument/2006/relationships/slideLayout" Target="../slideLayouts/slideLayout971.xml"/><Relationship Id="rId15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3.xml"/><Relationship Id="rId5" Type="http://schemas.openxmlformats.org/officeDocument/2006/relationships/slideLayout" Target="../slideLayouts/slideLayout974.xml"/><Relationship Id="rId6" Type="http://schemas.openxmlformats.org/officeDocument/2006/relationships/slideLayout" Target="../slideLayouts/slideLayout975.xml"/><Relationship Id="rId7" Type="http://schemas.openxmlformats.org/officeDocument/2006/relationships/slideLayout" Target="../slideLayouts/slideLayout976.xml"/><Relationship Id="rId8" Type="http://schemas.openxmlformats.org/officeDocument/2006/relationships/slideLayout" Target="../slideLayouts/slideLayout977.xml"/><Relationship Id="rId9" Type="http://schemas.openxmlformats.org/officeDocument/2006/relationships/slideLayout" Target="../slideLayouts/slideLayout978.xml"/><Relationship Id="rId10" Type="http://schemas.openxmlformats.org/officeDocument/2006/relationships/slideLayout" Target="../slideLayouts/slideLayout979.xml"/><Relationship Id="rId11" Type="http://schemas.openxmlformats.org/officeDocument/2006/relationships/slideLayout" Target="../slideLayouts/slideLayout980.xml"/><Relationship Id="rId12" Type="http://schemas.openxmlformats.org/officeDocument/2006/relationships/slideLayout" Target="../slideLayouts/slideLayout981.xml"/><Relationship Id="rId13" Type="http://schemas.openxmlformats.org/officeDocument/2006/relationships/slideLayout" Target="../slideLayouts/slideLayout982.xml"/><Relationship Id="rId14" Type="http://schemas.openxmlformats.org/officeDocument/2006/relationships/slideLayout" Target="../slideLayouts/slideLayout983.xml"/><Relationship Id="rId15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85.xml"/><Relationship Id="rId5" Type="http://schemas.openxmlformats.org/officeDocument/2006/relationships/slideLayout" Target="../slideLayouts/slideLayout986.xml"/><Relationship Id="rId6" Type="http://schemas.openxmlformats.org/officeDocument/2006/relationships/slideLayout" Target="../slideLayouts/slideLayout987.xml"/><Relationship Id="rId7" Type="http://schemas.openxmlformats.org/officeDocument/2006/relationships/slideLayout" Target="../slideLayouts/slideLayout988.xml"/><Relationship Id="rId8" Type="http://schemas.openxmlformats.org/officeDocument/2006/relationships/slideLayout" Target="../slideLayouts/slideLayout989.xml"/><Relationship Id="rId9" Type="http://schemas.openxmlformats.org/officeDocument/2006/relationships/slideLayout" Target="../slideLayouts/slideLayout990.xml"/><Relationship Id="rId10" Type="http://schemas.openxmlformats.org/officeDocument/2006/relationships/slideLayout" Target="../slideLayouts/slideLayout991.xml"/><Relationship Id="rId11" Type="http://schemas.openxmlformats.org/officeDocument/2006/relationships/slideLayout" Target="../slideLayouts/slideLayout992.xml"/><Relationship Id="rId12" Type="http://schemas.openxmlformats.org/officeDocument/2006/relationships/slideLayout" Target="../slideLayouts/slideLayout993.xml"/><Relationship Id="rId13" Type="http://schemas.openxmlformats.org/officeDocument/2006/relationships/slideLayout" Target="../slideLayouts/slideLayout994.xml"/><Relationship Id="rId14" Type="http://schemas.openxmlformats.org/officeDocument/2006/relationships/slideLayout" Target="../slideLayouts/slideLayout995.xml"/><Relationship Id="rId15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97.xml"/><Relationship Id="rId5" Type="http://schemas.openxmlformats.org/officeDocument/2006/relationships/slideLayout" Target="../slideLayouts/slideLayout998.xml"/><Relationship Id="rId6" Type="http://schemas.openxmlformats.org/officeDocument/2006/relationships/slideLayout" Target="../slideLayouts/slideLayout999.xml"/><Relationship Id="rId7" Type="http://schemas.openxmlformats.org/officeDocument/2006/relationships/slideLayout" Target="../slideLayouts/slideLayout1000.xml"/><Relationship Id="rId8" Type="http://schemas.openxmlformats.org/officeDocument/2006/relationships/slideLayout" Target="../slideLayouts/slideLayout1001.xml"/><Relationship Id="rId9" Type="http://schemas.openxmlformats.org/officeDocument/2006/relationships/slideLayout" Target="../slideLayouts/slideLayout1002.xml"/><Relationship Id="rId10" Type="http://schemas.openxmlformats.org/officeDocument/2006/relationships/slideLayout" Target="../slideLayouts/slideLayout1003.xml"/><Relationship Id="rId11" Type="http://schemas.openxmlformats.org/officeDocument/2006/relationships/slideLayout" Target="../slideLayouts/slideLayout1004.xml"/><Relationship Id="rId12" Type="http://schemas.openxmlformats.org/officeDocument/2006/relationships/slideLayout" Target="../slideLayouts/slideLayout1005.xml"/><Relationship Id="rId13" Type="http://schemas.openxmlformats.org/officeDocument/2006/relationships/slideLayout" Target="../slideLayouts/slideLayout1006.xml"/><Relationship Id="rId14" Type="http://schemas.openxmlformats.org/officeDocument/2006/relationships/slideLayout" Target="../slideLayouts/slideLayout1007.xml"/><Relationship Id="rId15" Type="http://schemas.openxmlformats.org/officeDocument/2006/relationships/slideLayout" Target="../slideLayouts/slideLayout100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2AE9-0535-4B48-9D7C-90C2429ED78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04FC-5A36-4C60-B6EF-251C149B57D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E1E9-D73A-4D98-BE5B-1AF15B994C1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1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6DF6-E5A7-40FC-98FD-E4AA37C597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FC90-B522-4494-B515-FA8B3B795C1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5DD7-FE30-4E7A-8E11-97D86A45990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4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E2D6-B136-474C-A962-C935A9A2732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sldNum" idx="2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EB8E-4975-4F89-81C8-FCC22DF687E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3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DDAA-FD25-4DA5-80B2-42EE1695E34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sldNum" idx="2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E07C-09EB-4CAC-AACB-423A8B9C230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15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6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17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818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1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22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823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5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826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828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829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2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834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E220-358E-4411-8C26-624E287B84D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7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8EDB-4F9F-4C61-AEAB-EC8B212FE2C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2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F812-6874-40EB-8A64-90B19AA8FDF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6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sldNum" idx="2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CC46-153F-43B5-9617-1491DD90D1D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sldNum" idx="2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9F80-659B-46E9-8E9F-5FDCFAC4EFF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5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sldNum" idx="2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7ECE-69C0-4C0B-8204-5D94C59EAD9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9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sldNum" idx="3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93AC-A115-4AB2-AE9C-3BDA0199962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3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4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sldNum" idx="3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3D23-6555-43EA-8A4F-BD5746DFFCC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8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sldNum" idx="3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28C0-5AAA-41FD-A247-4732F977F1E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sldNum" idx="3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D4FC-90D2-4F4E-A02D-24E2A2505E0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sldNum" idx="3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698D-C9E1-4E43-BDEA-F7349481345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5A07-F5F2-4519-AEB1-E35F98C52CB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3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314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5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316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317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18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19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20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321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322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3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324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325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6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327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328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9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0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1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2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3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3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7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37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sldNum" idx="3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A7CA-38F2-45FF-8BC5-83C6A5D0B44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 type="sldNum" idx="3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0D52-AEFC-4C50-8C06-78A8E9819EE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 type="sldNum" idx="3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2921-B038-4D6B-A1BC-1B7D0BCB6C1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sldNum" idx="3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B4C4-D71B-415A-AF78-B15EB74D8CE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 type="sldNum" idx="3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8507-72B6-4C69-AC02-F5692ED75AD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sldNum" idx="4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5B48-D3E3-48CE-A18B-96C74C10742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Num" idx="4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16DD-77D3-4871-BC50-19D038263A8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4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FFBE-0F88-4DB9-A2C4-439F0C1D842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 type="sldNum" idx="4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0186-9B5B-4C44-ABB1-180F1736AE7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68D0-D1B0-45E0-89A9-62320C6802B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 type="sldNum" idx="4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1822-600D-4003-B91A-46FEDEDF72C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2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813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14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815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16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7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18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19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20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821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2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23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24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5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26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827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8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9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0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1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32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83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7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7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 type="sldNum" idx="4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BF1E-3B2B-48C2-B950-67628A86A3D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2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 type="sldNum" idx="4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2168-F816-4295-84A1-EB9EEFA5CBC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sldNum" idx="4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9190-EDAF-4769-9F99-721B05175E7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0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sldNum" idx="4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4BDC-6837-4ABB-9260-4C3E30A6A6B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4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5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 type="sldNum" idx="4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D470-787F-481D-9B6E-805B143A9CF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9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 type="sldNum" idx="5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9537-A268-42FF-BB23-723F7417451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4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 type="sldNum" idx="5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A2C4-3909-44C5-BFCB-5AB3A720F6C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8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8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 type="sldNum" idx="5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C1C9-C349-4749-9FC5-9B44E57F72B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C90B-3EFE-4E5A-BA91-6801DCD231D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2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2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sldNum" idx="5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B699-65E3-4EA1-844C-8C58B5E411E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7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sldNum" idx="5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E9D1-FF09-43CB-BF4D-D59EB8DAA52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1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312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3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314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315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6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7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8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319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320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1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322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323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4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325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326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7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8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9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0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331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33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 type="sldNum" idx="5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57B4-52EA-4E10-B539-3CDC808AD47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1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sldNum" idx="5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CF36-222B-4FA4-9F5B-A2AAB6A9C51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6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6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 type="sldNum" idx="5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09A5-28ED-48F6-8A20-BCAE294A30E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0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 type="sldNum" idx="5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49CA-38F8-4594-8B81-9F92589D09D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4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5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 type="sldNum" idx="5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A891-B7AA-447A-B634-4871CE39BD8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9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 type="sldNum" idx="6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FD88-C2D1-4428-AF3D-93F2C3DACE2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3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3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 type="sldNum" idx="6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0E40-AA5D-44E4-896F-F8629EC3675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9068-78AC-4DA0-878B-52E037DA927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7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 type="sldNum" idx="6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3E77-0B15-42A9-92D3-FE32CD3E30F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2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2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 type="sldNum" idx="6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2719-3FEE-478E-A728-D9BEFD82C9F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6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 type="sldNum" idx="6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1995-7875-474C-9F6A-4359666319B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4"/>
    <p:sldLayoutId id="2147484443" r:id="rId5"/>
    <p:sldLayoutId id="2147484444" r:id="rId6"/>
    <p:sldLayoutId id="2147484445" r:id="rId7"/>
    <p:sldLayoutId id="2147484446" r:id="rId8"/>
    <p:sldLayoutId id="2147484447" r:id="rId9"/>
    <p:sldLayoutId id="2147484448" r:id="rId10"/>
    <p:sldLayoutId id="2147484449" r:id="rId11"/>
    <p:sldLayoutId id="2147484450" r:id="rId12"/>
    <p:sldLayoutId id="2147484451" r:id="rId13"/>
    <p:sldLayoutId id="2147484452" r:id="rId14"/>
    <p:sldLayoutId id="2147484453" r:id="rId15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811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1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81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81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6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818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819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0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82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82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82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82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6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7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8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9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83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8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sldNum" idx="6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B979-EF0E-4810-A3D7-2CB2164AAAF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1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1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 type="sldNum" idx="6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A0A6-A207-4975-8193-DF7C7289BD4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4"/>
    <p:sldLayoutId id="2147484482" r:id="rId5"/>
    <p:sldLayoutId id="2147484483" r:id="rId6"/>
    <p:sldLayoutId id="2147484484" r:id="rId7"/>
    <p:sldLayoutId id="2147484485" r:id="rId8"/>
    <p:sldLayoutId id="2147484486" r:id="rId9"/>
    <p:sldLayoutId id="2147484487" r:id="rId10"/>
    <p:sldLayoutId id="2147484488" r:id="rId11"/>
    <p:sldLayoutId id="2147484489" r:id="rId12"/>
    <p:sldLayoutId id="2147484490" r:id="rId13"/>
    <p:sldLayoutId id="2147484491" r:id="rId14"/>
    <p:sldLayoutId id="2147484492" r:id="rId15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5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6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 type="sldNum" idx="6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D0DB-EC0B-453D-8ED5-E5E73979D1C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4"/>
    <p:sldLayoutId id="2147484495" r:id="rId5"/>
    <p:sldLayoutId id="2147484496" r:id="rId6"/>
    <p:sldLayoutId id="2147484497" r:id="rId7"/>
    <p:sldLayoutId id="2147484498" r:id="rId8"/>
    <p:sldLayoutId id="2147484499" r:id="rId9"/>
    <p:sldLayoutId id="2147484500" r:id="rId10"/>
    <p:sldLayoutId id="2147484501" r:id="rId11"/>
    <p:sldLayoutId id="2147484502" r:id="rId12"/>
    <p:sldLayoutId id="2147484503" r:id="rId13"/>
    <p:sldLayoutId id="2147484504" r:id="rId14"/>
    <p:sldLayoutId id="2147484505" r:id="rId15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0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0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0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 type="sldNum" idx="6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B248-FB73-4447-A889-E596B08BB5B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4"/>
    <p:sldLayoutId id="2147484508" r:id="rId5"/>
    <p:sldLayoutId id="2147484509" r:id="rId6"/>
    <p:sldLayoutId id="2147484510" r:id="rId7"/>
    <p:sldLayoutId id="2147484511" r:id="rId8"/>
    <p:sldLayoutId id="2147484512" r:id="rId9"/>
    <p:sldLayoutId id="2147484513" r:id="rId10"/>
    <p:sldLayoutId id="2147484514" r:id="rId11"/>
    <p:sldLayoutId id="2147484515" r:id="rId12"/>
    <p:sldLayoutId id="2147484516" r:id="rId13"/>
    <p:sldLayoutId id="2147484517" r:id="rId14"/>
    <p:sldLayoutId id="2147484518" r:id="rId15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 type="sldNum" idx="6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F98F-EE8C-40A7-8E35-9540E25A920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4"/>
    <p:sldLayoutId id="2147484521" r:id="rId5"/>
    <p:sldLayoutId id="2147484522" r:id="rId6"/>
    <p:sldLayoutId id="2147484523" r:id="rId7"/>
    <p:sldLayoutId id="2147484524" r:id="rId8"/>
    <p:sldLayoutId id="2147484525" r:id="rId9"/>
    <p:sldLayoutId id="2147484526" r:id="rId10"/>
    <p:sldLayoutId id="2147484527" r:id="rId11"/>
    <p:sldLayoutId id="2147484528" r:id="rId12"/>
    <p:sldLayoutId id="2147484529" r:id="rId13"/>
    <p:sldLayoutId id="2147484530" r:id="rId14"/>
    <p:sldLayoutId id="2147484531" r:id="rId15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9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9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 type="sldNum" idx="7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80F9-FAC1-469D-B3E1-3435BE7B830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1DCB-5B63-45A9-A571-426DD1019A9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3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3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 type="sldNum" idx="7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486F-8B92-42CC-AADD-713A2B1FB1B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4"/>
    <p:sldLayoutId id="2147484547" r:id="rId5"/>
    <p:sldLayoutId id="2147484548" r:id="rId6"/>
    <p:sldLayoutId id="2147484549" r:id="rId7"/>
    <p:sldLayoutId id="2147484550" r:id="rId8"/>
    <p:sldLayoutId id="2147484551" r:id="rId9"/>
    <p:sldLayoutId id="2147484552" r:id="rId10"/>
    <p:sldLayoutId id="2147484553" r:id="rId11"/>
    <p:sldLayoutId id="2147484554" r:id="rId12"/>
    <p:sldLayoutId id="2147484555" r:id="rId13"/>
    <p:sldLayoutId id="2147484556" r:id="rId14"/>
    <p:sldLayoutId id="2147484557" r:id="rId15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7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8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8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 type="sldNum" idx="7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52AD-B613-4780-A2B9-0F317C75E86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2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2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 type="sldNum" idx="7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0A80-75CD-402B-BBFA-B84838D0F52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6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7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2" name="PlaceHolder 3"/>
          <p:cNvSpPr>
            <a:spLocks noGrp="1"/>
          </p:cNvSpPr>
          <p:nvPr>
            <p:ph type="sldNum" idx="7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A8C7-3997-40E0-87CF-DFEFB728681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9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310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1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12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3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4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15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16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17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318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9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20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21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2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323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24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5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6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7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8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29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4"/>
    <p:sldLayoutId id="2147484599" r:id="rId5"/>
    <p:sldLayoutId id="2147484600" r:id="rId6"/>
    <p:sldLayoutId id="2147484601" r:id="rId7"/>
    <p:sldLayoutId id="2147484602" r:id="rId8"/>
    <p:sldLayoutId id="2147484603" r:id="rId9"/>
    <p:sldLayoutId id="2147484604" r:id="rId10"/>
    <p:sldLayoutId id="2147484605" r:id="rId11"/>
    <p:sldLayoutId id="2147484606" r:id="rId12"/>
    <p:sldLayoutId id="2147484607" r:id="rId13"/>
    <p:sldLayoutId id="2147484608" r:id="rId14"/>
    <p:sldLayoutId id="2147484609" r:id="rId15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3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5" name="PlaceHolder 3"/>
          <p:cNvSpPr>
            <a:spLocks noGrp="1"/>
          </p:cNvSpPr>
          <p:nvPr>
            <p:ph type="sldNum" idx="7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86A7-50F4-44F7-AC85-58E3F3C57F8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4"/>
    <p:sldLayoutId id="2147484612" r:id="rId5"/>
    <p:sldLayoutId id="2147484613" r:id="rId6"/>
    <p:sldLayoutId id="2147484614" r:id="rId7"/>
    <p:sldLayoutId id="2147484615" r:id="rId8"/>
    <p:sldLayoutId id="2147484616" r:id="rId9"/>
    <p:sldLayoutId id="2147484617" r:id="rId10"/>
    <p:sldLayoutId id="2147484618" r:id="rId11"/>
    <p:sldLayoutId id="2147484619" r:id="rId12"/>
    <p:sldLayoutId id="2147484620" r:id="rId13"/>
    <p:sldLayoutId id="2147484621" r:id="rId14"/>
    <p:sldLayoutId id="2147484622" r:id="rId15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1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1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 type="sldNum" idx="7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B501-BD63-4FC3-9203-60D6F96648C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4"/>
    <p:sldLayoutId id="2147484625" r:id="rId5"/>
    <p:sldLayoutId id="2147484626" r:id="rId6"/>
    <p:sldLayoutId id="2147484627" r:id="rId7"/>
    <p:sldLayoutId id="2147484628" r:id="rId8"/>
    <p:sldLayoutId id="2147484629" r:id="rId9"/>
    <p:sldLayoutId id="2147484630" r:id="rId10"/>
    <p:sldLayoutId id="2147484631" r:id="rId11"/>
    <p:sldLayoutId id="2147484632" r:id="rId12"/>
    <p:sldLayoutId id="2147484633" r:id="rId13"/>
    <p:sldLayoutId id="2147484634" r:id="rId14"/>
    <p:sldLayoutId id="2147484635" r:id="rId15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5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6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6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 type="sldNum" idx="7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2FDC-2966-4682-ADE4-0771ABE126B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4"/>
    <p:sldLayoutId id="2147484638" r:id="rId5"/>
    <p:sldLayoutId id="2147484639" r:id="rId6"/>
    <p:sldLayoutId id="2147484640" r:id="rId7"/>
    <p:sldLayoutId id="2147484641" r:id="rId8"/>
    <p:sldLayoutId id="2147484642" r:id="rId9"/>
    <p:sldLayoutId id="2147484643" r:id="rId10"/>
    <p:sldLayoutId id="2147484644" r:id="rId11"/>
    <p:sldLayoutId id="2147484645" r:id="rId12"/>
    <p:sldLayoutId id="2147484646" r:id="rId13"/>
    <p:sldLayoutId id="2147484647" r:id="rId14"/>
    <p:sldLayoutId id="2147484648" r:id="rId15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0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0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0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 type="sldNum" idx="7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7EEF-34A7-4F86-B6C7-4CC56A815D3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4"/>
    <p:sldLayoutId id="2147484651" r:id="rId5"/>
    <p:sldLayoutId id="2147484652" r:id="rId6"/>
    <p:sldLayoutId id="2147484653" r:id="rId7"/>
    <p:sldLayoutId id="2147484654" r:id="rId8"/>
    <p:sldLayoutId id="2147484655" r:id="rId9"/>
    <p:sldLayoutId id="2147484656" r:id="rId10"/>
    <p:sldLayoutId id="2147484657" r:id="rId11"/>
    <p:sldLayoutId id="2147484658" r:id="rId12"/>
    <p:sldLayoutId id="2147484659" r:id="rId13"/>
    <p:sldLayoutId id="2147484660" r:id="rId14"/>
    <p:sldLayoutId id="2147484661" r:id="rId15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4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 type="sldNum" idx="7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0F90-46A6-4B37-A0A2-8B258ABAC2B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4"/>
    <p:sldLayoutId id="2147484664" r:id="rId5"/>
    <p:sldLayoutId id="2147484665" r:id="rId6"/>
    <p:sldLayoutId id="2147484666" r:id="rId7"/>
    <p:sldLayoutId id="2147484667" r:id="rId8"/>
    <p:sldLayoutId id="2147484668" r:id="rId9"/>
    <p:sldLayoutId id="2147484669" r:id="rId10"/>
    <p:sldLayoutId id="2147484670" r:id="rId11"/>
    <p:sldLayoutId id="2147484671" r:id="rId12"/>
    <p:sldLayoutId id="2147484672" r:id="rId13"/>
    <p:sldLayoutId id="2147484673" r:id="rId14"/>
    <p:sldLayoutId id="2147484674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1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1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1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2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2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2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8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 type="sldNum" idx="8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DA2F-E98F-4688-8951-DFC059D1E15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4"/>
    <p:sldLayoutId id="2147484677" r:id="rId5"/>
    <p:sldLayoutId id="2147484678" r:id="rId6"/>
    <p:sldLayoutId id="2147484679" r:id="rId7"/>
    <p:sldLayoutId id="2147484680" r:id="rId8"/>
    <p:sldLayoutId id="2147484681" r:id="rId9"/>
    <p:sldLayoutId id="2147484682" r:id="rId10"/>
    <p:sldLayoutId id="2147484683" r:id="rId11"/>
    <p:sldLayoutId id="2147484684" r:id="rId12"/>
    <p:sldLayoutId id="2147484685" r:id="rId13"/>
    <p:sldLayoutId id="2147484686" r:id="rId14"/>
    <p:sldLayoutId id="2147484687" r:id="rId15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3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3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3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 type="sldNum" idx="8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97CE-CF44-472F-ABDA-6671F0D93BF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4"/>
    <p:sldLayoutId id="2147484690" r:id="rId5"/>
    <p:sldLayoutId id="2147484691" r:id="rId6"/>
    <p:sldLayoutId id="2147484692" r:id="rId7"/>
    <p:sldLayoutId id="2147484693" r:id="rId8"/>
    <p:sldLayoutId id="2147484694" r:id="rId9"/>
    <p:sldLayoutId id="2147484695" r:id="rId10"/>
    <p:sldLayoutId id="2147484696" r:id="rId11"/>
    <p:sldLayoutId id="2147484697" r:id="rId12"/>
    <p:sldLayoutId id="2147484698" r:id="rId13"/>
    <p:sldLayoutId id="2147484699" r:id="rId14"/>
    <p:sldLayoutId id="2147484700" r:id="rId15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7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8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 type="sldNum" idx="8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7ECA-323D-4E5F-BB63-70AA91BC0ED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4"/>
    <p:sldLayoutId id="2147484703" r:id="rId5"/>
    <p:sldLayoutId id="2147484704" r:id="rId6"/>
    <p:sldLayoutId id="2147484705" r:id="rId7"/>
    <p:sldLayoutId id="2147484706" r:id="rId8"/>
    <p:sldLayoutId id="2147484707" r:id="rId9"/>
    <p:sldLayoutId id="2147484708" r:id="rId10"/>
    <p:sldLayoutId id="2147484709" r:id="rId11"/>
    <p:sldLayoutId id="2147484710" r:id="rId12"/>
    <p:sldLayoutId id="2147484711" r:id="rId13"/>
    <p:sldLayoutId id="2147484712" r:id="rId14"/>
    <p:sldLayoutId id="2147484713" r:id="rId15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2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2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 type="sldNum" idx="8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A2BE-7A2F-4E74-9BF8-D36D0A85795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4"/>
    <p:sldLayoutId id="2147484716" r:id="rId5"/>
    <p:sldLayoutId id="2147484717" r:id="rId6"/>
    <p:sldLayoutId id="2147484718" r:id="rId7"/>
    <p:sldLayoutId id="2147484719" r:id="rId8"/>
    <p:sldLayoutId id="2147484720" r:id="rId9"/>
    <p:sldLayoutId id="2147484721" r:id="rId10"/>
    <p:sldLayoutId id="2147484722" r:id="rId11"/>
    <p:sldLayoutId id="2147484723" r:id="rId12"/>
    <p:sldLayoutId id="2147484724" r:id="rId13"/>
    <p:sldLayoutId id="2147484725" r:id="rId14"/>
    <p:sldLayoutId id="2147484726" r:id="rId15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6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6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 type="sldNum" idx="8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C49B-1ED1-43A6-889B-E191D3B4354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4"/>
    <p:sldLayoutId id="2147484729" r:id="rId5"/>
    <p:sldLayoutId id="2147484730" r:id="rId6"/>
    <p:sldLayoutId id="2147484731" r:id="rId7"/>
    <p:sldLayoutId id="2147484732" r:id="rId8"/>
    <p:sldLayoutId id="2147484733" r:id="rId9"/>
    <p:sldLayoutId id="2147484734" r:id="rId10"/>
    <p:sldLayoutId id="2147484735" r:id="rId11"/>
    <p:sldLayoutId id="2147484736" r:id="rId12"/>
    <p:sldLayoutId id="2147484737" r:id="rId13"/>
    <p:sldLayoutId id="2147484738" r:id="rId14"/>
    <p:sldLayoutId id="2147484739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4161-F2E2-454C-ADEB-7A298BE954B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75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2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619272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三章　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神经肌肉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9" name="PlaceHolder 2"/>
          <p:cNvSpPr>
            <a:spLocks noGrp="1"/>
          </p:cNvSpPr>
          <p:nvPr>
            <p:ph type="subTitle"/>
          </p:nvPr>
        </p:nvSpPr>
        <p:spPr>
          <a:xfrm>
            <a:off x="755640" y="5445000"/>
            <a:ext cx="671040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延边大学护理学院     崔文香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脑脊液测定正常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859" name="对象 2"/>
          <p:cNvGraphicFramePr/>
          <p:nvPr/>
        </p:nvGraphicFramePr>
        <p:xfrm>
          <a:off x="179280" y="1268280"/>
          <a:ext cx="8591760" cy="54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0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591760" cy="54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2" name=""/>
          <p:cNvSpPr txBox="1"/>
          <p:nvPr/>
        </p:nvSpPr>
        <p:spPr>
          <a:xfrm>
            <a:off x="468000" y="162864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胚胎时期神经细胞的分化和繁殖以惊人的速度进行，每分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500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；胚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月时，神经细胞数目达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亿个，之后不再有神经细胞数量的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婴儿期，各种刺激引起的神经冲动传导缓慢，且易于泛化，不易形成兴奋灶，因而婴儿易产生疲劳而进入睡眠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4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生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角膜反射、瞳孔对光反射、结膜反射及吞咽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以后逐渐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觅食反射、拥抱反射、握持反射、吸吮反射，迈步反射及颈肢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不存在，以后逐渐出现并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腹壁反射、提睾反射及腱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6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病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包括巴宾斯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abinski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戈登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ordon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奥苯海姆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ppenhei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岁以内可为阳性，个别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阳性可为生理反应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若单侧阳性，结合临床考虑是否为病理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8" name=""/>
          <p:cNvSpPr txBox="1"/>
          <p:nvPr/>
        </p:nvSpPr>
        <p:spPr>
          <a:xfrm>
            <a:off x="1907640" y="2997000"/>
            <a:ext cx="5543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节 化脓性脑膜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AE67-015B-4840-A849-319A5D4BF5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各种化脓性细菌感染引起的急性脑膜炎症，是小儿、尤其婴幼儿时期常见的中枢神经系统感染性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菌的侵袭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5884-6334-4E95-B5DD-04FD17BB5518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5" name="Oval 5"/>
          <p:cNvSpPr/>
          <p:nvPr/>
        </p:nvSpPr>
        <p:spPr>
          <a:xfrm>
            <a:off x="3276720" y="2133720"/>
            <a:ext cx="2590560" cy="10792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致病菌的侵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6" name="Rectangle 11"/>
          <p:cNvSpPr/>
          <p:nvPr/>
        </p:nvSpPr>
        <p:spPr>
          <a:xfrm>
            <a:off x="43488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0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7" name="Rectangle 11"/>
          <p:cNvSpPr/>
          <p:nvPr/>
        </p:nvSpPr>
        <p:spPr>
          <a:xfrm>
            <a:off x="6084720" y="3800520"/>
            <a:ext cx="269748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8" name="Rectangle 11"/>
          <p:cNvSpPr/>
          <p:nvPr/>
        </p:nvSpPr>
        <p:spPr>
          <a:xfrm>
            <a:off x="3276720" y="38005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9" name="Rectangle 11"/>
          <p:cNvSpPr/>
          <p:nvPr/>
        </p:nvSpPr>
        <p:spPr>
          <a:xfrm>
            <a:off x="43488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肠道革兰阴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金黄色葡萄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0" name="Rectangle 11"/>
          <p:cNvSpPr/>
          <p:nvPr/>
        </p:nvSpPr>
        <p:spPr>
          <a:xfrm>
            <a:off x="32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流感嗜血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1" name="Rectangle 11"/>
          <p:cNvSpPr/>
          <p:nvPr/>
        </p:nvSpPr>
        <p:spPr>
          <a:xfrm>
            <a:off x="6084720" y="5084640"/>
            <a:ext cx="269748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脑膜炎双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肺炎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2" name="Line 3"/>
          <p:cNvSpPr/>
          <p:nvPr/>
        </p:nvSpPr>
        <p:spPr>
          <a:xfrm flipH="1">
            <a:off x="241092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3" name="Line 3"/>
          <p:cNvSpPr/>
          <p:nvPr/>
        </p:nvSpPr>
        <p:spPr>
          <a:xfrm>
            <a:off x="4572000" y="3357720"/>
            <a:ext cx="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4" name="Line 3"/>
          <p:cNvSpPr/>
          <p:nvPr/>
        </p:nvSpPr>
        <p:spPr>
          <a:xfrm>
            <a:off x="6300720" y="3141720"/>
            <a:ext cx="43200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5" name="Line 3"/>
          <p:cNvSpPr/>
          <p:nvPr/>
        </p:nvSpPr>
        <p:spPr>
          <a:xfrm>
            <a:off x="197964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6" name="Line 3"/>
          <p:cNvSpPr/>
          <p:nvPr/>
        </p:nvSpPr>
        <p:spPr>
          <a:xfrm>
            <a:off x="457200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7" name="Line 3"/>
          <p:cNvSpPr/>
          <p:nvPr/>
        </p:nvSpPr>
        <p:spPr>
          <a:xfrm>
            <a:off x="7380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机体免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F86A-B401-4406-8EFB-76B2353091E5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1" name="Oval 5"/>
          <p:cNvSpPr/>
          <p:nvPr/>
        </p:nvSpPr>
        <p:spPr>
          <a:xfrm>
            <a:off x="3419640" y="2205000"/>
            <a:ext cx="2286000" cy="10666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机体免疫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2" name="Rectangle 11"/>
          <p:cNvSpPr/>
          <p:nvPr/>
        </p:nvSpPr>
        <p:spPr>
          <a:xfrm>
            <a:off x="111600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M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3" name="Rectangle 11"/>
          <p:cNvSpPr/>
          <p:nvPr/>
        </p:nvSpPr>
        <p:spPr>
          <a:xfrm>
            <a:off x="507672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A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4" name="Rectangle 11"/>
          <p:cNvSpPr/>
          <p:nvPr/>
        </p:nvSpPr>
        <p:spPr>
          <a:xfrm>
            <a:off x="115416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大肠埃希菌败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5" name="Rectangle 11"/>
          <p:cNvSpPr/>
          <p:nvPr/>
        </p:nvSpPr>
        <p:spPr>
          <a:xfrm>
            <a:off x="50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呼吸道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胃肠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6" name="Line 3"/>
          <p:cNvSpPr/>
          <p:nvPr/>
        </p:nvSpPr>
        <p:spPr>
          <a:xfrm flipH="1">
            <a:off x="277128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7" name="Line 3"/>
          <p:cNvSpPr/>
          <p:nvPr/>
        </p:nvSpPr>
        <p:spPr>
          <a:xfrm>
            <a:off x="5867280" y="3141720"/>
            <a:ext cx="43344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8" name="Line 3"/>
          <p:cNvSpPr/>
          <p:nvPr/>
        </p:nvSpPr>
        <p:spPr>
          <a:xfrm>
            <a:off x="2484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9" name="Line 3"/>
          <p:cNvSpPr/>
          <p:nvPr/>
        </p:nvSpPr>
        <p:spPr>
          <a:xfrm>
            <a:off x="673272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BD4D-8D21-4405-97CE-AE54EF1737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826560" y="285480"/>
            <a:ext cx="8317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</a:t>
            </a:r>
            <a:r>
              <a:rPr b="0" i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致病菌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2" name="Text Box 30"/>
          <p:cNvSpPr/>
          <p:nvPr/>
        </p:nvSpPr>
        <p:spPr>
          <a:xfrm>
            <a:off x="6300720" y="3573360"/>
            <a:ext cx="3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3" name="图片 1" descr=""/>
          <p:cNvPicPr/>
          <p:nvPr/>
        </p:nvPicPr>
        <p:blipFill>
          <a:blip r:embed="rId1"/>
          <a:stretch/>
        </p:blipFill>
        <p:spPr>
          <a:xfrm>
            <a:off x="588960" y="1844640"/>
            <a:ext cx="8132760" cy="4249800"/>
          </a:xfrm>
          <a:prstGeom prst="rect">
            <a:avLst/>
          </a:prstGeom>
          <a:ln w="0">
            <a:noFill/>
          </a:ln>
        </p:spPr>
      </p:pic>
      <p:sp>
        <p:nvSpPr>
          <p:cNvPr id="3904" name="AutoShape 5"/>
          <p:cNvSpPr/>
          <p:nvPr/>
        </p:nvSpPr>
        <p:spPr>
          <a:xfrm>
            <a:off x="2411280" y="2254320"/>
            <a:ext cx="432000" cy="3095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5" name="图片 2" descr=""/>
          <p:cNvPicPr/>
          <p:nvPr/>
        </p:nvPicPr>
        <p:blipFill>
          <a:blip r:embed="rId2"/>
          <a:stretch/>
        </p:blipFill>
        <p:spPr>
          <a:xfrm>
            <a:off x="1284120" y="3706920"/>
            <a:ext cx="48132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典型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8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641C-1038-4017-944B-2603D25920E9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9" name="Oval 5"/>
          <p:cNvSpPr/>
          <p:nvPr/>
        </p:nvSpPr>
        <p:spPr>
          <a:xfrm>
            <a:off x="3203640" y="1268280"/>
            <a:ext cx="25923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典型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0" name="Rectangle 11"/>
          <p:cNvSpPr/>
          <p:nvPr/>
        </p:nvSpPr>
        <p:spPr>
          <a:xfrm>
            <a:off x="425520" y="29019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感染中毒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急性脑功能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1" name="Rectangle 11"/>
          <p:cNvSpPr/>
          <p:nvPr/>
        </p:nvSpPr>
        <p:spPr>
          <a:xfrm>
            <a:off x="607536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2" name="Rectangle 11"/>
          <p:cNvSpPr/>
          <p:nvPr/>
        </p:nvSpPr>
        <p:spPr>
          <a:xfrm>
            <a:off x="326700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3" name="Rectangle 11"/>
          <p:cNvSpPr/>
          <p:nvPr/>
        </p:nvSpPr>
        <p:spPr>
          <a:xfrm>
            <a:off x="71280" y="4197240"/>
            <a:ext cx="320544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发热、烦躁不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进行性加重的意识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4" name="Rectangle 11"/>
          <p:cNvSpPr/>
          <p:nvPr/>
        </p:nvSpPr>
        <p:spPr>
          <a:xfrm>
            <a:off x="3348000" y="4197240"/>
            <a:ext cx="269712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痛、呕吐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婴儿则有前囟饱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与张力增高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围增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5" name="Rectangle 11"/>
          <p:cNvSpPr/>
          <p:nvPr/>
        </p:nvSpPr>
        <p:spPr>
          <a:xfrm>
            <a:off x="6146640" y="4197240"/>
            <a:ext cx="288936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颈项强直最常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其他如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Kernig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Brudzinski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6" name="Line 3"/>
          <p:cNvSpPr/>
          <p:nvPr/>
        </p:nvSpPr>
        <p:spPr>
          <a:xfrm flipH="1">
            <a:off x="2401560" y="2252520"/>
            <a:ext cx="53028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7" name="Line 3"/>
          <p:cNvSpPr/>
          <p:nvPr/>
        </p:nvSpPr>
        <p:spPr>
          <a:xfrm>
            <a:off x="4562640" y="246852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8" name="Line 3"/>
          <p:cNvSpPr/>
          <p:nvPr/>
        </p:nvSpPr>
        <p:spPr>
          <a:xfrm>
            <a:off x="6291360" y="2252520"/>
            <a:ext cx="43164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9" name="Line 3"/>
          <p:cNvSpPr/>
          <p:nvPr/>
        </p:nvSpPr>
        <p:spPr>
          <a:xfrm>
            <a:off x="1763640" y="378936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0" name="Line 3"/>
          <p:cNvSpPr/>
          <p:nvPr/>
        </p:nvSpPr>
        <p:spPr>
          <a:xfrm>
            <a:off x="4562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1" name="Line 3"/>
          <p:cNvSpPr/>
          <p:nvPr/>
        </p:nvSpPr>
        <p:spPr>
          <a:xfrm>
            <a:off x="7370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/>
          </p:nvPr>
        </p:nvSpPr>
        <p:spPr>
          <a:xfrm>
            <a:off x="2700000" y="1557000"/>
            <a:ext cx="45356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化脓性脑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脑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癫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吉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巴雷综合征                注意力缺陷多动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812" name="Group 4"/>
          <p:cNvGrpSpPr/>
          <p:nvPr/>
        </p:nvGrpSpPr>
        <p:grpSpPr>
          <a:xfrm>
            <a:off x="1819440" y="2579760"/>
            <a:ext cx="688320" cy="593640"/>
            <a:chOff x="1819440" y="2579760"/>
            <a:chExt cx="688320" cy="593640"/>
          </a:xfrm>
        </p:grpSpPr>
        <p:sp>
          <p:nvSpPr>
            <p:cNvPr id="3813" name="AutoShape 5"/>
            <p:cNvSpPr/>
            <p:nvPr/>
          </p:nvSpPr>
          <p:spPr>
            <a:xfrm>
              <a:off x="1824840" y="258984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4" name="AutoShape 6"/>
            <p:cNvSpPr/>
            <p:nvPr/>
          </p:nvSpPr>
          <p:spPr>
            <a:xfrm>
              <a:off x="1819440" y="257976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5" name="AutoShape 7"/>
            <p:cNvSpPr/>
            <p:nvPr/>
          </p:nvSpPr>
          <p:spPr>
            <a:xfrm>
              <a:off x="1859400" y="26146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16" name="Text Box 8"/>
          <p:cNvSpPr/>
          <p:nvPr/>
        </p:nvSpPr>
        <p:spPr>
          <a:xfrm>
            <a:off x="1980720" y="2637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7" name="AutoShape 9"/>
          <p:cNvSpPr/>
          <p:nvPr/>
        </p:nvSpPr>
        <p:spPr>
          <a:xfrm>
            <a:off x="1819440" y="334152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8" name="Text Box 10"/>
          <p:cNvSpPr/>
          <p:nvPr/>
        </p:nvSpPr>
        <p:spPr>
          <a:xfrm>
            <a:off x="1954080" y="3424320"/>
            <a:ext cx="354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19" name="Group 11"/>
          <p:cNvGrpSpPr/>
          <p:nvPr/>
        </p:nvGrpSpPr>
        <p:grpSpPr>
          <a:xfrm>
            <a:off x="1803240" y="4110120"/>
            <a:ext cx="687240" cy="593640"/>
            <a:chOff x="1803240" y="4110120"/>
            <a:chExt cx="687240" cy="593640"/>
          </a:xfrm>
        </p:grpSpPr>
        <p:sp>
          <p:nvSpPr>
            <p:cNvPr id="3820" name="AutoShape 12"/>
            <p:cNvSpPr/>
            <p:nvPr/>
          </p:nvSpPr>
          <p:spPr>
            <a:xfrm>
              <a:off x="1808640" y="412020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1" name="AutoShape 13"/>
            <p:cNvSpPr/>
            <p:nvPr/>
          </p:nvSpPr>
          <p:spPr>
            <a:xfrm>
              <a:off x="1803240" y="41101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2" name="AutoShape 14"/>
            <p:cNvSpPr/>
            <p:nvPr/>
          </p:nvSpPr>
          <p:spPr>
            <a:xfrm>
              <a:off x="1843200" y="414504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23" name="Text Box 15"/>
          <p:cNvSpPr/>
          <p:nvPr/>
        </p:nvSpPr>
        <p:spPr>
          <a:xfrm>
            <a:off x="1971720" y="418608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4" name="AutoShape 16"/>
          <p:cNvSpPr/>
          <p:nvPr/>
        </p:nvSpPr>
        <p:spPr>
          <a:xfrm>
            <a:off x="1803240" y="487188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5" name="Text Box 17"/>
          <p:cNvSpPr/>
          <p:nvPr/>
        </p:nvSpPr>
        <p:spPr>
          <a:xfrm>
            <a:off x="1963440" y="492912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6" name="Line 18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7" name="Line 19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9" name="Line 21"/>
          <p:cNvSpPr/>
          <p:nvPr/>
        </p:nvSpPr>
        <p:spPr>
          <a:xfrm>
            <a:off x="2484360" y="5445000"/>
            <a:ext cx="4824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0" name="Line 21"/>
          <p:cNvSpPr/>
          <p:nvPr/>
        </p:nvSpPr>
        <p:spPr>
          <a:xfrm>
            <a:off x="2484360" y="6093000"/>
            <a:ext cx="48722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1" name="Group 4"/>
          <p:cNvGrpSpPr/>
          <p:nvPr/>
        </p:nvGrpSpPr>
        <p:grpSpPr>
          <a:xfrm>
            <a:off x="1835280" y="5589720"/>
            <a:ext cx="688320" cy="593640"/>
            <a:chOff x="1835280" y="5589720"/>
            <a:chExt cx="688320" cy="593640"/>
          </a:xfrm>
        </p:grpSpPr>
        <p:sp>
          <p:nvSpPr>
            <p:cNvPr id="3832" name="AutoShape 5"/>
            <p:cNvSpPr/>
            <p:nvPr/>
          </p:nvSpPr>
          <p:spPr>
            <a:xfrm>
              <a:off x="1840680" y="55998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3" name="AutoShape 6"/>
            <p:cNvSpPr/>
            <p:nvPr/>
          </p:nvSpPr>
          <p:spPr>
            <a:xfrm>
              <a:off x="1835280" y="55897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4" name="AutoShape 7"/>
            <p:cNvSpPr/>
            <p:nvPr/>
          </p:nvSpPr>
          <p:spPr>
            <a:xfrm>
              <a:off x="1875240" y="562464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35" name="Text Box 8"/>
          <p:cNvSpPr/>
          <p:nvPr/>
        </p:nvSpPr>
        <p:spPr>
          <a:xfrm>
            <a:off x="2014920" y="5661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6" name="Group 11"/>
          <p:cNvGrpSpPr/>
          <p:nvPr/>
        </p:nvGrpSpPr>
        <p:grpSpPr>
          <a:xfrm>
            <a:off x="1763640" y="1773360"/>
            <a:ext cx="687240" cy="593640"/>
            <a:chOff x="1763640" y="1773360"/>
            <a:chExt cx="687240" cy="593640"/>
          </a:xfrm>
        </p:grpSpPr>
        <p:sp>
          <p:nvSpPr>
            <p:cNvPr id="3837" name="AutoShape 12"/>
            <p:cNvSpPr/>
            <p:nvPr/>
          </p:nvSpPr>
          <p:spPr>
            <a:xfrm>
              <a:off x="1769040" y="1783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8" name="AutoShape 13"/>
            <p:cNvSpPr/>
            <p:nvPr/>
          </p:nvSpPr>
          <p:spPr>
            <a:xfrm>
              <a:off x="1763640" y="1773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9" name="AutoShape 14"/>
            <p:cNvSpPr/>
            <p:nvPr/>
          </p:nvSpPr>
          <p:spPr>
            <a:xfrm>
              <a:off x="1803600" y="1808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0" name="Text Box 15"/>
          <p:cNvSpPr/>
          <p:nvPr/>
        </p:nvSpPr>
        <p:spPr>
          <a:xfrm>
            <a:off x="1932120" y="184932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1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典型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24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F052-89EE-4F19-A60E-5D12C07BF449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5" name="Oval 5"/>
          <p:cNvSpPr/>
          <p:nvPr/>
        </p:nvSpPr>
        <p:spPr>
          <a:xfrm>
            <a:off x="250920" y="3284640"/>
            <a:ext cx="22701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非典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6" name="Rectangle 11"/>
          <p:cNvSpPr/>
          <p:nvPr/>
        </p:nvSpPr>
        <p:spPr>
          <a:xfrm>
            <a:off x="4211640" y="1700280"/>
            <a:ext cx="460836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体温可高可低或不发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甚至体温不升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7" name="Rectangle 11"/>
          <p:cNvSpPr/>
          <p:nvPr/>
        </p:nvSpPr>
        <p:spPr>
          <a:xfrm>
            <a:off x="4211640" y="4344480"/>
            <a:ext cx="460044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惊厥可不典型，如仅见面部、肢体局灶或多灶性抽动、局部或全身性肌阵挛，或呈眨眼、呼吸不规则、屏气等各种不显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8" name="Rectangle 11"/>
          <p:cNvSpPr/>
          <p:nvPr/>
        </p:nvSpPr>
        <p:spPr>
          <a:xfrm>
            <a:off x="4211640" y="2565360"/>
            <a:ext cx="4608360" cy="11509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表现不明显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幼婴不会诉头痛，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仅有吐奶、尖叫或颅缝分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9" name="Line 3"/>
          <p:cNvSpPr/>
          <p:nvPr/>
        </p:nvSpPr>
        <p:spPr>
          <a:xfrm flipV="1">
            <a:off x="2411280" y="2133360"/>
            <a:ext cx="149544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0" name="Rectangle 11"/>
          <p:cNvSpPr/>
          <p:nvPr/>
        </p:nvSpPr>
        <p:spPr>
          <a:xfrm>
            <a:off x="4211640" y="5448240"/>
            <a:ext cx="46083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不明显，与婴儿肌肉不发达，肌力弱和反应低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1" name="Line 3"/>
          <p:cNvSpPr/>
          <p:nvPr/>
        </p:nvSpPr>
        <p:spPr>
          <a:xfrm>
            <a:off x="2700360" y="4076640"/>
            <a:ext cx="1295280" cy="216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2" name="Line 3"/>
          <p:cNvSpPr/>
          <p:nvPr/>
        </p:nvSpPr>
        <p:spPr>
          <a:xfrm flipV="1">
            <a:off x="2700360" y="3141720"/>
            <a:ext cx="129528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3" name="Line 3"/>
          <p:cNvSpPr/>
          <p:nvPr/>
        </p:nvSpPr>
        <p:spPr>
          <a:xfrm>
            <a:off x="2268360" y="4724280"/>
            <a:ext cx="1727280" cy="1008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6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42E3-F457-4026-A87A-C0A1F50D8378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7" name="Oval 5"/>
          <p:cNvSpPr/>
          <p:nvPr/>
        </p:nvSpPr>
        <p:spPr>
          <a:xfrm>
            <a:off x="2843280" y="2205000"/>
            <a:ext cx="2270160" cy="107964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8" name="Rectangle 11"/>
          <p:cNvSpPr/>
          <p:nvPr/>
        </p:nvSpPr>
        <p:spPr>
          <a:xfrm>
            <a:off x="250920" y="4292640"/>
            <a:ext cx="1944720" cy="450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硬膜下积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9" name="Rectangle 11"/>
          <p:cNvSpPr/>
          <p:nvPr/>
        </p:nvSpPr>
        <p:spPr>
          <a:xfrm>
            <a:off x="4284720" y="4293720"/>
            <a:ext cx="172728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积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0" name="Rectangle 11"/>
          <p:cNvSpPr/>
          <p:nvPr/>
        </p:nvSpPr>
        <p:spPr>
          <a:xfrm>
            <a:off x="2411280" y="4292640"/>
            <a:ext cx="1729080" cy="43164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室管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1" name="Rectangle 11"/>
          <p:cNvSpPr/>
          <p:nvPr/>
        </p:nvSpPr>
        <p:spPr>
          <a:xfrm>
            <a:off x="6429240" y="4074120"/>
            <a:ext cx="25005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抗利尿激素不适当分泌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2" name="Line 3"/>
          <p:cNvSpPr/>
          <p:nvPr/>
        </p:nvSpPr>
        <p:spPr>
          <a:xfrm>
            <a:off x="5364000" y="2997360"/>
            <a:ext cx="1729080" cy="1008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3" name="Line 3"/>
          <p:cNvSpPr/>
          <p:nvPr/>
        </p:nvSpPr>
        <p:spPr>
          <a:xfrm flipH="1">
            <a:off x="3276720" y="3284640"/>
            <a:ext cx="2872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4" name="Line 3"/>
          <p:cNvSpPr/>
          <p:nvPr/>
        </p:nvSpPr>
        <p:spPr>
          <a:xfrm>
            <a:off x="4643280" y="3284640"/>
            <a:ext cx="2890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5" name="Line 3"/>
          <p:cNvSpPr/>
          <p:nvPr/>
        </p:nvSpPr>
        <p:spPr>
          <a:xfrm flipH="1">
            <a:off x="1186920" y="3141720"/>
            <a:ext cx="158436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ECA8-680C-43F3-B599-43A3A2DFDB16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他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皮肤瘀点、瘀斑涂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周血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清降钙素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神经影像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49" name="Picture 4" descr="图片19"/>
          <p:cNvPicPr/>
          <p:nvPr/>
        </p:nvPicPr>
        <p:blipFill>
          <a:blip r:embed="rId1"/>
          <a:stretch/>
        </p:blipFill>
        <p:spPr>
          <a:xfrm>
            <a:off x="565164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DA61-ABD1-4608-BFDC-1811570283D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上腺素皮质激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及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治疗：①硬脑膜下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室管膜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1CBE-67C4-40D8-AC4B-136EB3339001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小儿患病前有无呼吸道、消化道或皮肤的感染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测量患儿生命体征，评估患儿有无发病各项症状，并判断症状的程度和性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对患儿健康的需求；是否有焦虑和恐惧的心理状况。评估家庭对疾病治疗和护理的经济承受能力和社会的支持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FA5D-1506-4D02-83CC-47C9922A029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/>
          </p:nvPr>
        </p:nvSpPr>
        <p:spPr>
          <a:xfrm>
            <a:off x="171360" y="1628640"/>
            <a:ext cx="889344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细菌感染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惊厥发作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          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摄入不足、机体消耗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疾病预后不良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A66C-1764-4B40-9FD1-1BB4FE6A69D4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6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96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96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6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7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7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5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76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3977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3978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9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0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1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2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3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8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8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8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1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2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993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994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5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6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97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8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9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00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01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02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3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4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5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6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7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08" name="AutoShape 53"/>
          <p:cNvSpPr/>
          <p:nvPr/>
        </p:nvSpPr>
        <p:spPr>
          <a:xfrm>
            <a:off x="3465360" y="16765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9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病室安静清洁、空气新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遵医嘱及时给予退热和抗生素等药物治疗，并了解各种药物的使用配伍要求、适应证、禁忌证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2" name="矩形 55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FE50-135C-4610-8133-5817E4AF0089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1" name="AutoShape 53"/>
          <p:cNvSpPr/>
          <p:nvPr/>
        </p:nvSpPr>
        <p:spPr>
          <a:xfrm>
            <a:off x="3622680" y="24955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2" name="圆角矩形 54"/>
          <p:cNvSpPr/>
          <p:nvPr/>
        </p:nvSpPr>
        <p:spPr>
          <a:xfrm>
            <a:off x="4716360" y="1849320"/>
            <a:ext cx="3143520" cy="1284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命体征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并发症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3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3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3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9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0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1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42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43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4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5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6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7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8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5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5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5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5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6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57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8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9" name="矩形 81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60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06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06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6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6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3475-5C57-4CB0-9317-560F78BF1352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9" name="AutoShape 53"/>
          <p:cNvSpPr/>
          <p:nvPr/>
        </p:nvSpPr>
        <p:spPr>
          <a:xfrm>
            <a:off x="3933720" y="32590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0" name="圆角矩形 55"/>
          <p:cNvSpPr/>
          <p:nvPr/>
        </p:nvSpPr>
        <p:spPr>
          <a:xfrm>
            <a:off x="4788000" y="2006640"/>
            <a:ext cx="4127400" cy="2735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环境和患儿安静，护理操作动作尽量轻柔、集中进行，修剪患儿指甲，专人守护和陪伴患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协助患儿洗漱、大小便及个人卫生等生活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7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7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7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7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8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8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8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6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8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8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8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9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3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4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95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96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97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8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9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0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1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2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0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0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0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9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0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2" name="矩形 138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1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1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1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9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2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88F1-DC19-4557-86E4-EB98A4C095B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3" name="AutoShape 53"/>
          <p:cNvSpPr/>
          <p:nvPr/>
        </p:nvSpPr>
        <p:spPr>
          <a:xfrm>
            <a:off x="3940200" y="4199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4" name="圆角矩形 54"/>
          <p:cNvSpPr/>
          <p:nvPr/>
        </p:nvSpPr>
        <p:spPr>
          <a:xfrm>
            <a:off x="4876920" y="3100320"/>
            <a:ext cx="4005000" cy="2225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高热量、高蛋白、高维生素、易消化的清淡流质或半流质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2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2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2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3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3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3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4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4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4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9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150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151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2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3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54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5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6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3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4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65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6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6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6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6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7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3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74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-1440" y="1844280"/>
            <a:ext cx="914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说出小儿化脓性脑膜炎、病毒性脑膜炎及癫痫持续状态的定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描述小儿化脓性脑膜炎和吉兰</a:t>
            </a:r>
            <a:r>
              <a:rPr b="0" lang="en-US" sz="2000" spc="-1" strike="noStrike">
                <a:solidFill>
                  <a:srgbClr val="03517d"/>
                </a:solidFill>
                <a:latin typeface="黑体"/>
                <a:ea typeface="黑体"/>
              </a:rPr>
              <a:t>-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巴雷综合征脑脊液的特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化脓性脑膜炎及病毒性脑膜炎的临床特点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小儿癫痫的分型、注意力缺陷多动症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正确选择神经系统检查方法评估神经系统各种神经疾病存在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根据小儿不同年龄、疾病特征及护理问题实施相应的护理措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75D7-0735-49E9-8F4F-727F75996909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7" name="AutoShape 53"/>
          <p:cNvSpPr/>
          <p:nvPr/>
        </p:nvSpPr>
        <p:spPr>
          <a:xfrm flipV="1">
            <a:off x="3100320" y="5068080"/>
            <a:ext cx="1000080" cy="88920"/>
          </a:xfrm>
          <a:prstGeom prst="rightArrow">
            <a:avLst>
              <a:gd name="adj1" fmla="val 50000"/>
              <a:gd name="adj2" fmla="val 2233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8" name="圆角矩形 54"/>
          <p:cNvSpPr/>
          <p:nvPr/>
        </p:nvSpPr>
        <p:spPr>
          <a:xfrm>
            <a:off x="4302000" y="4338720"/>
            <a:ext cx="464364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患儿不同年龄，采用不同方式实施心理安慰、关心和爱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家长安慰，消除顾虑。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6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4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9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9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9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1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2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03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04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05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6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7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8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9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0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7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8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9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0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2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2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2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2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7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28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3946-E634-49B3-BD8E-62039CE8DEAC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1" name="AutoShape 53"/>
          <p:cNvSpPr/>
          <p:nvPr/>
        </p:nvSpPr>
        <p:spPr>
          <a:xfrm>
            <a:off x="314316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2" name="圆角矩形 54"/>
          <p:cNvSpPr/>
          <p:nvPr/>
        </p:nvSpPr>
        <p:spPr>
          <a:xfrm>
            <a:off x="4000680" y="3611520"/>
            <a:ext cx="5000400" cy="2889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积极防治上呼吸道、消化道等感染性疾病，预防皮肤外伤和脐部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与家属一起根据患儿具体情况制订系统且行之有效的功能训练计划，指导家长具体的护理措施，促进机体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0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8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5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6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57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58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59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0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1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62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3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4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1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2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73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4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7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7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7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1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2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4" name="圆角矩形 3"/>
          <p:cNvSpPr/>
          <p:nvPr/>
        </p:nvSpPr>
        <p:spPr>
          <a:xfrm>
            <a:off x="11160" y="1069920"/>
            <a:ext cx="9132840" cy="546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女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月，因发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，呕吐伴抽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前开始发热，体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8.5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持续不降，伴有流涕、咳嗽，烦躁不安。呕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，为胃内容物，量多，呈喷射状。入院当天突然出现抽搐，表现为意识丧失、双眼上翻、四肢强直，持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钟。患病以来精神萎靡，大小便正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体格检查：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 39.45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 4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P 15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W 9.0k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精神萎靡，嗜睡。皮肤黏膜未见瘀点、瘀斑。前囟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×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隆起。双侧瞳孔等大等圆，对光反射迟钝。咽部红。颈抵抗，双肺呼吸音粗，心音有力律齐，未闻及病理性杂音。腹软，肝肋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5cm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剑突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质中，脾未扪及。脊柱四肢发育正常。四肢肌张力增高，腱反射活跃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Kerni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rudzinski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巴氏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辅助检查：脑脊液检查结果：压力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430mmH2O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外观浑浊；白细胞数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2000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8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1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；蛋白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900mg0.9g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糖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264mmmol/L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氯化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010 mmmol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血常规检查结果：白细胞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7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28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尿常规、便常规。肝功均正常。胸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线片未见异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问题：</a:t>
            </a: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．患儿最可能的临床诊断是什么？说出诊断依据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5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287" name=""/>
          <p:cNvSpPr txBox="1"/>
          <p:nvPr/>
        </p:nvSpPr>
        <p:spPr>
          <a:xfrm>
            <a:off x="2572920" y="2708280"/>
            <a:ext cx="46069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节 病毒性脑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9124-B717-4EA9-A4F4-5C7244032A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encephalit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病毒感染引起的颅内急性炎症。若病变主要累及脑实质则称为病毒性脑炎，若病变主要累及脑膜则称为病毒性脑膜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meningiti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大多数患儿病程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种病毒感染均可引起脑炎、脑膜炎，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肠道病毒（柯萨奇病毒、埃可病毒）感染，其次为单纯疱疹病毒、腮腺炎病毒和虫媒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D61E-0BE9-4B7B-8D3B-132FD3911D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 type="title"/>
          </p:nvPr>
        </p:nvSpPr>
        <p:spPr>
          <a:xfrm>
            <a:off x="4246560" y="299520"/>
            <a:ext cx="48261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5" name="矩形 1"/>
          <p:cNvSpPr/>
          <p:nvPr/>
        </p:nvSpPr>
        <p:spPr>
          <a:xfrm>
            <a:off x="4246560" y="337644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6" name="矩形 27"/>
          <p:cNvSpPr/>
          <p:nvPr/>
        </p:nvSpPr>
        <p:spPr>
          <a:xfrm>
            <a:off x="4992840" y="2467080"/>
            <a:ext cx="18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释放入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7" name="矩形 28"/>
          <p:cNvSpPr/>
          <p:nvPr/>
        </p:nvSpPr>
        <p:spPr>
          <a:xfrm>
            <a:off x="4246560" y="1579680"/>
            <a:ext cx="3346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局部的初期复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8" name="矩形 29"/>
          <p:cNvSpPr/>
          <p:nvPr/>
        </p:nvSpPr>
        <p:spPr>
          <a:xfrm>
            <a:off x="2046240" y="1928880"/>
            <a:ext cx="201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胃肠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9" name="矩形 30"/>
          <p:cNvSpPr/>
          <p:nvPr/>
        </p:nvSpPr>
        <p:spPr>
          <a:xfrm>
            <a:off x="343080" y="1558800"/>
            <a:ext cx="1626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0" name="矩形 31"/>
          <p:cNvSpPr/>
          <p:nvPr/>
        </p:nvSpPr>
        <p:spPr>
          <a:xfrm>
            <a:off x="1900080" y="1236600"/>
            <a:ext cx="1509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呼吸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1" name="矩形 32"/>
          <p:cNvSpPr/>
          <p:nvPr/>
        </p:nvSpPr>
        <p:spPr>
          <a:xfrm>
            <a:off x="6378480" y="3425760"/>
            <a:ext cx="2997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发热等全身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2" name="矩形 33"/>
          <p:cNvSpPr/>
          <p:nvPr/>
        </p:nvSpPr>
        <p:spPr>
          <a:xfrm>
            <a:off x="4246560" y="5538960"/>
            <a:ext cx="3094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3" name="矩形 34"/>
          <p:cNvSpPr/>
          <p:nvPr/>
        </p:nvSpPr>
        <p:spPr>
          <a:xfrm>
            <a:off x="5118120" y="434808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血脑屏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304" name="直接箭头连接符 3"/>
          <p:cNvCxnSpPr/>
          <p:nvPr/>
        </p:nvCxnSpPr>
        <p:spPr>
          <a:xfrm>
            <a:off x="1318680" y="1949040"/>
            <a:ext cx="2791440" cy="108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5" name="直接箭头连接符 5"/>
          <p:cNvCxnSpPr/>
          <p:nvPr/>
        </p:nvCxnSpPr>
        <p:spPr>
          <a:xfrm>
            <a:off x="4992480" y="2184480"/>
            <a:ext cx="1080" cy="124200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6" name="直接箭头连接符 7"/>
          <p:cNvCxnSpPr/>
          <p:nvPr/>
        </p:nvCxnSpPr>
        <p:spPr>
          <a:xfrm>
            <a:off x="4992480" y="4114800"/>
            <a:ext cx="1080" cy="151992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sp>
        <p:nvSpPr>
          <p:cNvPr id="4307" name="直接连接符 9"/>
          <p:cNvSpPr/>
          <p:nvPr/>
        </p:nvSpPr>
        <p:spPr>
          <a:xfrm>
            <a:off x="5792760" y="3795840"/>
            <a:ext cx="585720" cy="0"/>
          </a:xfrm>
          <a:prstGeom prst="line">
            <a:avLst/>
          </a:prstGeom>
          <a:ln w="9360">
            <a:solidFill>
              <a:srgbClr val="006b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9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膜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先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上呼吸道或消化道感染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史，表现为发热、恶心、呕吐。继而婴儿出现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烦躁不安，易被激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年长儿表现头痛、颈背疼痛，脑膜刺激征阳性。很少发生严重意识障碍和惊厥，无局限性神经系统体征。病程大多为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490680" y="162828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驱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全身感染症状，如发热、头痛、呕吐、腹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枢神经系统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惊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意识障碍  ③颅内压增高    ④运动功能障碍   ⑤神经情绪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程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，多数患儿可完全恢复，但少数遗留癫痫、肢体瘫痪、智力倒退等后遗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6F5B-0CA3-4A04-B19E-3660D0B9B916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428796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/MR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315" name="Picture 4" descr="图片19"/>
          <p:cNvPicPr/>
          <p:nvPr/>
        </p:nvPicPr>
        <p:blipFill>
          <a:blip r:embed="rId1"/>
          <a:stretch/>
        </p:blipFill>
        <p:spPr>
          <a:xfrm>
            <a:off x="550872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5" name=""/>
          <p:cNvSpPr txBox="1"/>
          <p:nvPr/>
        </p:nvSpPr>
        <p:spPr>
          <a:xfrm>
            <a:off x="323640" y="2565360"/>
            <a:ext cx="8591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神经系统解剖生理特点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73A2-EEED-43B6-84D5-B890B55A514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治疗与支持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降温、镇静止痉、控制脑水肿、降低颅内压，卧床休息，维持体温正常及水、电解质平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病毒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阿昔洛韦、干扰素、更昔洛韦、利巴韦林或静脉注射免疫球蛋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2EAD-8E73-4666-8633-0A5A5645FA3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228240" y="1832040"/>
            <a:ext cx="899172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有无呼吸道或胃肠道感染史，有无动物接触史或蚊虫叮咬史，预防接种史和流行病学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史：起病前有无上呼吸道感染、胃肠道感染史，是否进行预防接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身体状况：患儿生命体征，精神状态、神志；有无头痛、呕吐、惊厥；囟门是否紧张、隆起、有无脑膜刺激征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6A69-8086-4B07-A51A-C29E9CDF1519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247680" y="1730520"/>
            <a:ext cx="8740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病毒血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惊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急性意识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脑实质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昏迷、瘫痪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于机体需要量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呕吐、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2A13-5F20-4D81-9A3E-26391D50F9F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7" name="AutoShape 53"/>
          <p:cNvSpPr/>
          <p:nvPr/>
        </p:nvSpPr>
        <p:spPr>
          <a:xfrm>
            <a:off x="3454560" y="15667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8" name="圆角矩形 54"/>
          <p:cNvSpPr/>
          <p:nvPr/>
        </p:nvSpPr>
        <p:spPr>
          <a:xfrm>
            <a:off x="4214880" y="1357200"/>
            <a:ext cx="4929120" cy="78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2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3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3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3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33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33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4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4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34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34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5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35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35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6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36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36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6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37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37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7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7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38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38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10E4-89E6-4B59-99B2-7FB3A2D824F9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9" name="AutoShape 53"/>
          <p:cNvSpPr/>
          <p:nvPr/>
        </p:nvSpPr>
        <p:spPr>
          <a:xfrm>
            <a:off x="3591000" y="219564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0" name="圆角矩形 54"/>
          <p:cNvSpPr/>
          <p:nvPr/>
        </p:nvSpPr>
        <p:spPr>
          <a:xfrm>
            <a:off x="4643280" y="1552680"/>
            <a:ext cx="3143520" cy="1284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惊厥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约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9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9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9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0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0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0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0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0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0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1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1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1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2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2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3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3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3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3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3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4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4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44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44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4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04BC-299C-4FFE-A58A-C425C58603EB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1" name="AutoShape 53"/>
          <p:cNvSpPr/>
          <p:nvPr/>
        </p:nvSpPr>
        <p:spPr>
          <a:xfrm>
            <a:off x="3946680" y="29383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2" name="圆角矩形 55"/>
          <p:cNvSpPr/>
          <p:nvPr/>
        </p:nvSpPr>
        <p:spPr>
          <a:xfrm>
            <a:off x="4788000" y="2052720"/>
            <a:ext cx="4127400" cy="180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去除影响患儿情绪的不良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保护性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53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454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455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6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7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58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9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0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1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62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63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4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5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6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7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8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9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70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71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2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3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4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5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6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77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78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79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0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1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82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3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4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85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86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87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8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9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90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1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2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93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4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95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96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97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8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9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0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1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2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03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04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05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6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7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8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9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0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067C-2BB1-446D-A09D-3EF819074D2C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3" name="AutoShape 53"/>
          <p:cNvSpPr/>
          <p:nvPr/>
        </p:nvSpPr>
        <p:spPr>
          <a:xfrm>
            <a:off x="4316400" y="3656160"/>
            <a:ext cx="530280" cy="63360"/>
          </a:xfrm>
          <a:prstGeom prst="rightArrow">
            <a:avLst>
              <a:gd name="adj1" fmla="val 50000"/>
              <a:gd name="adj2" fmla="val 2220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4" name="圆角矩形 54"/>
          <p:cNvSpPr/>
          <p:nvPr/>
        </p:nvSpPr>
        <p:spPr>
          <a:xfrm>
            <a:off x="5046840" y="3083040"/>
            <a:ext cx="4005000" cy="1253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呈功能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及早进行肢体功能锻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15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16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17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8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9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0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1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2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23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24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25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6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7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8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9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0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1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32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33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4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5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36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7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8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9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540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541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2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3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4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5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6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47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548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549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0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1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2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3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4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55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6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57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558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559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0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1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62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3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64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65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66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67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8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9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70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1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2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FAE8-9C65-42F2-969C-9DE0B06AF274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5" name="AutoShape 53"/>
          <p:cNvSpPr/>
          <p:nvPr/>
        </p:nvSpPr>
        <p:spPr>
          <a:xfrm flipV="1">
            <a:off x="3429000" y="4368240"/>
            <a:ext cx="727200" cy="44280"/>
          </a:xfrm>
          <a:prstGeom prst="rightArrow">
            <a:avLst>
              <a:gd name="adj1" fmla="val 50000"/>
              <a:gd name="adj2" fmla="val 2307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6" name="圆角矩形 54"/>
          <p:cNvSpPr/>
          <p:nvPr/>
        </p:nvSpPr>
        <p:spPr>
          <a:xfrm>
            <a:off x="4546440" y="3456000"/>
            <a:ext cx="436896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昏迷患儿侧卧位，定时翻身及按摩皮肤，防止出现压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77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78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79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0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1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2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3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4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5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86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87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8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9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0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1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2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93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94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95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6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7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8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9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0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1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02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03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4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5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6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7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8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9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10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11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2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3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14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5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6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17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8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19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20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21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2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3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4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5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6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27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28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29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0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1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2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3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4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A6F2-2E09-4643-A5BC-ACA0871EF2F5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7" name="AutoShape 53"/>
          <p:cNvSpPr/>
          <p:nvPr/>
        </p:nvSpPr>
        <p:spPr>
          <a:xfrm>
            <a:off x="4295880" y="49989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8" name="圆角矩形 54"/>
          <p:cNvSpPr/>
          <p:nvPr/>
        </p:nvSpPr>
        <p:spPr>
          <a:xfrm>
            <a:off x="5351400" y="4479840"/>
            <a:ext cx="3564000" cy="11271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瞳孔及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意识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64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64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4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4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64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64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5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65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65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6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6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7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7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7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7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8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8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8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8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9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9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9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04B3-B01C-4EA2-A048-53F122889B23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9" name="AutoShape 53"/>
          <p:cNvSpPr/>
          <p:nvPr/>
        </p:nvSpPr>
        <p:spPr>
          <a:xfrm>
            <a:off x="3103560" y="57913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0" name="圆角矩形 54"/>
          <p:cNvSpPr/>
          <p:nvPr/>
        </p:nvSpPr>
        <p:spPr>
          <a:xfrm>
            <a:off x="4316400" y="4511520"/>
            <a:ext cx="4599000" cy="1892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向患儿和家长介绍病情、用药指导及护理方法，指导并鼓励家长坚持智力训练和瘫痪肢体的功能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70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70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0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71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71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1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71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71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2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2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72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72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3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73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73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4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4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74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74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5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75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75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5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7" name=""/>
          <p:cNvSpPr txBox="1"/>
          <p:nvPr/>
        </p:nvSpPr>
        <p:spPr>
          <a:xfrm>
            <a:off x="395280" y="1681200"/>
            <a:ext cx="835200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85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57160" indent="-85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8" name="内容占位符 2"/>
          <p:cNvSpPr/>
          <p:nvPr/>
        </p:nvSpPr>
        <p:spPr>
          <a:xfrm>
            <a:off x="617400" y="2349360"/>
            <a:ext cx="790920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系统发育是小儿神经心理行为发展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有器官中神经系统发育居领先地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脑的生长是形态发育与结构功能逐渐成熟的过程，主要是神经细胞体积的增大和与之相连的突触数量的增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0" name="圆角矩形 3"/>
          <p:cNvSpPr/>
          <p:nvPr/>
        </p:nvSpPr>
        <p:spPr>
          <a:xfrm>
            <a:off x="11160" y="1306440"/>
            <a:ext cx="9132840" cy="5118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男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因“发热、神昏抽搐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时”由某医院急诊科收入院，患儿入院时高热，处于中度昏迷状态，频繁抽搐伴意识丧失，喉中痰鸣，大便秘结。查体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39℃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14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3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P105/56mmHg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瞳孔直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m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两侧对称，对光反应迟钝，各生理反射减弱，双侧巴氏征阳性，脑膜刺激征阳性，双眼视盘轻度水肿。脑脊液检查：压力升高，外观清亮，白细胞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以淋巴细胞为主，糖和氯化物正常，蛋白质轻度增高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前曾患有上呼吸道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问题：该患儿的主要护理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1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63" name=""/>
          <p:cNvSpPr txBox="1"/>
          <p:nvPr/>
        </p:nvSpPr>
        <p:spPr>
          <a:xfrm>
            <a:off x="2868120" y="2997000"/>
            <a:ext cx="40165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四节　癫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9AD3-22C0-4E85-A743-7ABDC41415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癫 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387360" y="1557000"/>
            <a:ext cx="847728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eizure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于脑部神经元发作性异常放电引起脑功能障碍的一组临床症状，表现为意识障碍、抽搐、精神行为异常等，多数癫痫发作持续时间短暂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pileps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原因引起的脑部慢性疾患，是脑内神经元反复发作性异常放电导致突发性、暂时性脑功能失常，临床出现意识、运动、感觉、精神或自主神经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8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内结构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C8F7-17ED-4E6E-AF1D-7BB734A723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1" name="矩形 1"/>
          <p:cNvSpPr/>
          <p:nvPr/>
        </p:nvSpPr>
        <p:spPr>
          <a:xfrm>
            <a:off x="395280" y="2871720"/>
            <a:ext cx="84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发生机制十分复杂，迄今尚未完全阐明。许多研究结果表明它的电生理本质是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神经元过度同步放电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结果，与神经生化、神经生理、神经生物学、免疫学等均密切相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3" name="PlaceHolder 2"/>
          <p:cNvSpPr>
            <a:spLocks noGrp="1"/>
          </p:cNvSpPr>
          <p:nvPr>
            <p:ph/>
          </p:nvPr>
        </p:nvSpPr>
        <p:spPr>
          <a:xfrm>
            <a:off x="47304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局灶性发作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单纯局灶性发作：临床以局灶性运动性发作最常见，发作时间平均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秒，发作后无不适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复杂局灶性发作：发作时有意识、知觉损害。意识部分丧失，多起源于颞区或额颞区，伴有精神行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5970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全面部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强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神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肌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张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痉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520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良性癫痫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最常见的一种癫痫综合征。从口面部开始，很快发展至全身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，意识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婴儿痉挛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频繁的强直痉挛发作，表现为屈曲性、伸展性及混合性三种。以屈曲性及混合性发作多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Lennox-Gastaut</a:t>
            </a: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综合征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多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常见肌阵挛、强直、失张力及非典型失神等多种发作，也可有大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3026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持续状态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tatus epilepticu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一次发作持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或反复发作间歇期意识不能完全恢复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者，称为癫痫持续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常因突然停药、药物中毒、高热等诱发。临床多见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持续状态，颅内、外急性疾病均可引起，为儿科急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A3AB-7A3D-45CB-9941-FD3735067926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确诊癫痫发作与癫痫最重要的检查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像学检查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I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颅脑影像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783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3850" name="内容占位符 2" descr=""/>
          <p:cNvPicPr/>
          <p:nvPr/>
        </p:nvPicPr>
        <p:blipFill>
          <a:blip r:embed="rId1"/>
          <a:stretch/>
        </p:blipFill>
        <p:spPr>
          <a:xfrm>
            <a:off x="838080" y="1332000"/>
            <a:ext cx="733428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DC5B-26CE-42F7-942B-F479F515DBCE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癫痫药物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药物治疗原则是早期用药，根据发作类型选药，以单一用药为主，从小剂量开始直至完全控制发作，长期规律服药，定期复查、监测药物血浓度，注意药物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针对经合理规范的抗癫痫药物治疗其疗效不佳者，属于难治性癫痫，其中部分患儿可以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ED74-FF11-4395-9A16-74149AC82448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饥饿、过饱、饮酒、劳累等诱发因素，家庭居住的气候、环境条件，家族中有无类似病史的成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生命体征，了解患儿发作时的临床表现、发作时间及次数等，了解相关影像学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了解可能引发疾病的社会及环境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CCE8-425D-470D-B2C1-588F3F94B006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2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窒息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喉痉挛、呼吸道分泌物增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癫痫发作时抽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水肿、酸中毒、呼吸衰竭、循环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知识缺乏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儿家长缺乏癫痫发作的急救知识及正确服用抗癫痫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AC9B-FFBC-484A-8E63-167A5DD34380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5" name="AutoShape 53"/>
          <p:cNvSpPr/>
          <p:nvPr/>
        </p:nvSpPr>
        <p:spPr>
          <a:xfrm>
            <a:off x="3571920" y="1914480"/>
            <a:ext cx="488880" cy="46080"/>
          </a:xfrm>
          <a:prstGeom prst="rightArrow">
            <a:avLst>
              <a:gd name="adj1" fmla="val 50000"/>
              <a:gd name="adj2" fmla="val 2205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6" name="圆角矩形 54"/>
          <p:cNvSpPr/>
          <p:nvPr/>
        </p:nvSpPr>
        <p:spPr>
          <a:xfrm>
            <a:off x="4214880" y="1563840"/>
            <a:ext cx="4929120" cy="780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97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798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799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0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1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02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3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4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05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06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07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8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9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0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1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2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13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814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15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6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7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8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9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0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21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22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23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4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5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6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7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8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9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0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1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32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33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4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5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36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7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38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95C6-9E2E-4161-8BFA-3BD35BA957BB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1" name="AutoShape 53"/>
          <p:cNvSpPr/>
          <p:nvPr/>
        </p:nvSpPr>
        <p:spPr>
          <a:xfrm>
            <a:off x="3368520" y="28098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2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操作时勿强行按压肢体，以免引起骨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护患儿肢体，防止皮肤破损、骨折或脱臼、坠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活动与休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43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44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45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6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7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48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9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0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1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52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53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4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5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56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7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8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9" name="Group 4"/>
          <p:cNvGrpSpPr/>
          <p:nvPr/>
        </p:nvGrpSpPr>
        <p:grpSpPr>
          <a:xfrm>
            <a:off x="196920" y="1565280"/>
            <a:ext cx="2997720" cy="748800"/>
            <a:chOff x="196920" y="1565280"/>
            <a:chExt cx="2997720" cy="748800"/>
          </a:xfrm>
        </p:grpSpPr>
        <p:grpSp>
          <p:nvGrpSpPr>
            <p:cNvPr id="4860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61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2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3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64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5" name="Text Box 10"/>
            <p:cNvSpPr/>
            <p:nvPr/>
          </p:nvSpPr>
          <p:spPr>
            <a:xfrm>
              <a:off x="155412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气道通畅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6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67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68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69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0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1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72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3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4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75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6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77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78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79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0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1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2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3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84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F519-15C1-47B2-908F-343907BDD89A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7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8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癫痫发作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循环衰竭的征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患儿经抗癫痫治疗后，癫痫发作、智力和运动发育等状况的转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9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90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91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2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3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94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5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6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97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98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99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0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1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02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3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4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05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06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07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8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9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0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1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2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13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14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15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6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7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8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9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0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21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2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23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24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25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6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7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28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9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30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4647-438C-4AA4-9F7C-D59AF405C9E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3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4" name="圆角矩形 54"/>
          <p:cNvSpPr/>
          <p:nvPr/>
        </p:nvSpPr>
        <p:spPr>
          <a:xfrm>
            <a:off x="4495680" y="3833640"/>
            <a:ext cx="4324320" cy="2654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围生期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家长合理安排患儿的生活与学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除患儿的精神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35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936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937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8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9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0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1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2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43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944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945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6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7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8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9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0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1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52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53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4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5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6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7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8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9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60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61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2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3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4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5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6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67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8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69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70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71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2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3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74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5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76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78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五节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20A5-6043-4BCE-AB44-D721FDC4B7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  <a:ea typeface="黑体"/>
            </a:endParaRPr>
          </a:p>
        </p:txBody>
      </p:sp>
      <p:sp>
        <p:nvSpPr>
          <p:cNvPr id="4981" name="PlaceHolder 2"/>
          <p:cNvSpPr>
            <a:spLocks noGrp="1"/>
          </p:cNvSpPr>
          <p:nvPr>
            <p:ph/>
          </p:nvPr>
        </p:nvSpPr>
        <p:spPr>
          <a:xfrm>
            <a:off x="390600" y="2276280"/>
            <a:ext cx="8477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感染性多发性神经根神经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uillain-Barre syndrome, GB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小儿最常见的急性周围神经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3" name="PlaceHolder 2"/>
          <p:cNvSpPr>
            <a:spLocks noGrp="1"/>
          </p:cNvSpPr>
          <p:nvPr>
            <p:ph/>
          </p:nvPr>
        </p:nvSpPr>
        <p:spPr>
          <a:xfrm>
            <a:off x="394920" y="242064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因尚未完全明确。多数学者认为本病是免疫介导的迟发型超敏反应，感染是启动免疫反应的首要因素。最主要的感染因子为空肠弯曲菌、巨细胞病毒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、带状疱疹病毒、肺炎支原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2" name="内容占位符 2"/>
          <p:cNvSpPr/>
          <p:nvPr/>
        </p:nvSpPr>
        <p:spPr>
          <a:xfrm>
            <a:off x="500040" y="1844640"/>
            <a:ext cx="8110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生时已具备功能，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构造已接近成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髓末端：新生儿期位于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下缘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上移至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B4A3-1D6E-43F4-9CCD-1C9402387D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5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6" name="矩形 1"/>
          <p:cNvSpPr/>
          <p:nvPr/>
        </p:nvSpPr>
        <p:spPr>
          <a:xfrm>
            <a:off x="668160" y="2349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感染、创伤、手术等刺激因素改变机体的免疫系统，导致淋巴细胞对髓鞘敏感，出现髓鞘损伤和神经脱髓鞘的现象，运动、感觉神经冲动传导速度减慢甚至停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运动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进行性肌无力是最突出的表现。多数患儿自肢体远端开始呈上行性麻痹进展，急性起病者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4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即可出现严重的肢体瘫痪以及呼吸机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脑神经麻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对称或不对称的脑神经麻痹，以面神经受损引起的面瘫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0" name="PlaceHolder 2"/>
          <p:cNvSpPr>
            <a:spLocks noGrp="1"/>
          </p:cNvSpPr>
          <p:nvPr>
            <p:ph/>
          </p:nvPr>
        </p:nvSpPr>
        <p:spPr>
          <a:xfrm>
            <a:off x="4906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感觉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早期即有肌肉疼痛，下肢远端出现不同程度的感觉异常和麻木感。年长儿可表现为手套或袜套状分布感觉减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自主神经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较轻微，可出现视物不清，多汗、面色潮红、腹痛、便秘，一过性尿潴留，血压轻度升高或心率失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26AD-7C32-4C7D-A94F-4D2FC0A495E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蛋白细胞分离现象，是本病特征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肌电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系统检查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肌力评定、运动能力和深浅感觉等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994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BE0A-0388-40CC-8F56-F77A6EC6DBF5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7" name="PlaceHolder 2"/>
          <p:cNvSpPr>
            <a:spLocks noGrp="1"/>
          </p:cNvSpPr>
          <p:nvPr>
            <p:ph/>
          </p:nvPr>
        </p:nvSpPr>
        <p:spPr>
          <a:xfrm>
            <a:off x="311040" y="136044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药物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疾病初期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）大剂量应用人血免疫球蛋白可明显延缓本病进展速度，减轻极期症状的严重程度，降低气管切开及机械通气的概率。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4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脉注射，连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对症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神经根水肿，可给予甘露醇或短期应用肾上腺皮质激素；积极治疗呼吸肌麻痹，严重病例应及时给予机械通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0485-1E08-473B-9908-AE55E629C34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9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0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病毒感染、创伤、手术等刺激因素，询问家庭居住的气候、环境条件，家族中有无类似病史的成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患儿肌力变化，注意呼吸及运动感觉功能，了解实验室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家长对该病的预后、疾病的护理方法、药物的副作用等知识的认识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3172-2360-4C3A-97CE-47FCA98761B6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感觉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效性呼吸型态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呼吸肌瘫痪、咳嗽反射消失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吞咽困难影响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皮肤完整性受损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长期卧床、感觉异常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5431-ED27-4B74-8C5D-F1732A1B723F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6" name="AutoShape 53"/>
          <p:cNvSpPr/>
          <p:nvPr/>
        </p:nvSpPr>
        <p:spPr>
          <a:xfrm>
            <a:off x="4124160" y="19890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7" name="圆角矩形 54"/>
          <p:cNvSpPr/>
          <p:nvPr/>
        </p:nvSpPr>
        <p:spPr>
          <a:xfrm>
            <a:off x="4670280" y="1400040"/>
            <a:ext cx="4245120" cy="18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于功能位置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帮助患儿做肢体被动运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恢复期鼓励、指导、督促患儿自主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08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09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10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1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2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13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4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5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16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17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18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9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0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1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2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3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24" name="Group 4"/>
          <p:cNvGrpSpPr/>
          <p:nvPr/>
        </p:nvGrpSpPr>
        <p:grpSpPr>
          <a:xfrm>
            <a:off x="196920" y="1581120"/>
            <a:ext cx="3392640" cy="748800"/>
            <a:chOff x="196920" y="1581120"/>
            <a:chExt cx="3392640" cy="748800"/>
          </a:xfrm>
        </p:grpSpPr>
        <p:grpSp>
          <p:nvGrpSpPr>
            <p:cNvPr id="5025" name="Group 5"/>
            <p:cNvGrpSpPr/>
            <p:nvPr/>
          </p:nvGrpSpPr>
          <p:grpSpPr>
            <a:xfrm>
              <a:off x="196920" y="1581120"/>
              <a:ext cx="792720" cy="748800"/>
              <a:chOff x="196920" y="1581120"/>
              <a:chExt cx="792720" cy="748800"/>
            </a:xfrm>
          </p:grpSpPr>
          <p:sp>
            <p:nvSpPr>
              <p:cNvPr id="5026" name="AutoShape 6"/>
              <p:cNvSpPr/>
              <p:nvPr/>
            </p:nvSpPr>
            <p:spPr>
              <a:xfrm>
                <a:off x="203400" y="15937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7" name="AutoShape 7"/>
              <p:cNvSpPr/>
              <p:nvPr/>
            </p:nvSpPr>
            <p:spPr>
              <a:xfrm>
                <a:off x="196920" y="158112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8" name="AutoShape 8"/>
              <p:cNvSpPr/>
              <p:nvPr/>
            </p:nvSpPr>
            <p:spPr>
              <a:xfrm>
                <a:off x="243000" y="162540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9" name="Line 9"/>
            <p:cNvSpPr/>
            <p:nvPr/>
          </p:nvSpPr>
          <p:spPr>
            <a:xfrm>
              <a:off x="796680" y="222984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0" name="Text Box 10"/>
            <p:cNvSpPr/>
            <p:nvPr/>
          </p:nvSpPr>
          <p:spPr>
            <a:xfrm>
              <a:off x="1702080" y="16437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1" name="Text Box 11"/>
            <p:cNvSpPr/>
            <p:nvPr/>
          </p:nvSpPr>
          <p:spPr>
            <a:xfrm>
              <a:off x="381960" y="1638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32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33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34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5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6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37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8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9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0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1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42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43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44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5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6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7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8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9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C71B-0C0E-4708-9C3A-34F12E9F1F2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2" name="AutoShape 53"/>
          <p:cNvSpPr/>
          <p:nvPr/>
        </p:nvSpPr>
        <p:spPr>
          <a:xfrm>
            <a:off x="3624120" y="27972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3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室内空气新鲜，温、湿度适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呼吸道通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呼吸困难者给予低流量氧气吸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54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55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56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7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8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59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0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1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62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63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64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5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6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67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8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9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0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071" name="Group 5"/>
            <p:cNvGrpSpPr/>
            <p:nvPr/>
          </p:nvGrpSpPr>
          <p:grpSpPr>
            <a:xfrm>
              <a:off x="196920" y="1565280"/>
              <a:ext cx="792360" cy="748800"/>
              <a:chOff x="196920" y="1565280"/>
              <a:chExt cx="792360" cy="748800"/>
            </a:xfrm>
          </p:grpSpPr>
          <p:sp>
            <p:nvSpPr>
              <p:cNvPr id="5072" name="AutoShape 6"/>
              <p:cNvSpPr/>
              <p:nvPr/>
            </p:nvSpPr>
            <p:spPr>
              <a:xfrm>
                <a:off x="203400" y="157788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3" name="AutoShape 7"/>
              <p:cNvSpPr/>
              <p:nvPr/>
            </p:nvSpPr>
            <p:spPr>
              <a:xfrm>
                <a:off x="196920" y="15652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4" name="AutoShape 8"/>
              <p:cNvSpPr/>
              <p:nvPr/>
            </p:nvSpPr>
            <p:spPr>
              <a:xfrm>
                <a:off x="243000" y="1609560"/>
                <a:ext cx="689760" cy="647280"/>
              </a:xfrm>
              <a:prstGeom prst="hexagon">
                <a:avLst>
                  <a:gd name="adj" fmla="val 2668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75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6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7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8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79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80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1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2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83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4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5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86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7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88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89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90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1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2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93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94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95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CEDC-65D2-4D75-8A18-5947415F6185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8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9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高蛋白、高能量、高维生素易消化饮食，少量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00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01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02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3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4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5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6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7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08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09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10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1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2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3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4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5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16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17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18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9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0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1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2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3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24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25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26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7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8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9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0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1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32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3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34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35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36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7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8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39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0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41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55" name="图片 5" descr="5.jpg"/>
          <p:cNvPicPr/>
          <p:nvPr/>
        </p:nvPicPr>
        <p:blipFill>
          <a:blip r:embed="rId1"/>
          <a:stretch/>
        </p:blipFill>
        <p:spPr>
          <a:xfrm>
            <a:off x="1227240" y="1488960"/>
            <a:ext cx="676584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B54C-86BD-43A8-8004-F17EBF2B5249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4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5" name="圆角矩形 54"/>
          <p:cNvSpPr/>
          <p:nvPr/>
        </p:nvSpPr>
        <p:spPr>
          <a:xfrm>
            <a:off x="4284720" y="4103640"/>
            <a:ext cx="4324320" cy="2338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预防压疮。教会家长帮助患儿进行训练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恢复期患儿坚持瘫痪肢体的主动锻炼，定期进行门诊复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46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47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48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9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0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1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2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3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4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55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56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7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8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9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0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1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62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63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64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5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6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67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8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9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70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71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72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3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4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5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6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7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78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9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0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81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82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3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4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5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6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87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189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六节　注意力缺陷多动症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94CF-AC18-4FC0-85CE-4498B469B2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注意力缺陷多动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390600" y="1989000"/>
            <a:ext cx="8477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轻微脑功能障碍综合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inimal brain dysfunction syndrome, M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以与年龄不相称的多动、注意力不集中、任性、易冲动为主要特征的行为障碍，是一种常见的小儿行为异常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533160" y="2492280"/>
            <a:ext cx="83818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病由多种因素引起。有研究证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明显的遗传倾向；此外，与各种原因导致的脑损伤有关，如妊娠及分娩期脑轻微损伤、神经发育延迟或损害等；不良社会和家庭环境等也可能是致病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75A2-EA84-4590-8052-49E76F25AD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6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7" name="矩形 1"/>
          <p:cNvSpPr/>
          <p:nvPr/>
        </p:nvSpPr>
        <p:spPr>
          <a:xfrm>
            <a:off x="668160" y="234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4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多肽性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有关，它主要分布在额叶，它的异常提示额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元功能低下引发注意障碍。分子生物学研究多巴胺代谢异常或敏感性增高，其他研究多集中在丘脑、网状激活系统和前中脑束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注意缺陷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的表现欲年龄明显不相称，注意集中困难和注意持续时间短暂，是本症的核心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活动过多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为患者经常显得不安宁，小动作多，不能安静坐着，在座位上扭来扭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行为冲动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冲动，在信息不充分的情况下快速地做出行为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42472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学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神经系统发育异常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的精细动作、协调运动、空间位置觉等发育较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品行障碍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行障碍表现为攻击性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4EF0-7ECA-44FE-B90C-31657F11C3B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4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35164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graphicFrame>
        <p:nvGraphicFramePr>
          <p:cNvPr id="5205" name=""/>
          <p:cNvGraphicFramePr/>
          <p:nvPr/>
        </p:nvGraphicFramePr>
        <p:xfrm>
          <a:off x="287280" y="1628640"/>
          <a:ext cx="8567640" cy="4646880"/>
        </p:xfrm>
        <a:graphic>
          <a:graphicData uri="http://schemas.openxmlformats.org/drawingml/2006/table">
            <a:tbl>
              <a:tblPr/>
              <a:tblGrid>
                <a:gridCol w="4554720"/>
                <a:gridCol w="4012920"/>
              </a:tblGrid>
              <a:tr h="454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意力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多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易受外来影响而激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教室常常离开座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监督时难以有始有终地完成任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未加思考即开始行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持久性集中注意力（作业、游戏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集体活动中常不按次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听不进别人说什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在问题尚未说完时即抢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经常丢失生活和学习用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安静地玩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学校课堂注意力分散、成绩不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做出过分的行动如爬高、乱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能组织达到一定目的的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与危险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一事未完又做另一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坐立不安、动手动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干扰别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说话过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06" name="矩形 2"/>
          <p:cNvSpPr/>
          <p:nvPr/>
        </p:nvSpPr>
        <p:spPr>
          <a:xfrm>
            <a:off x="2925360" y="109224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H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诊断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9793-2FBA-4D73-9BCA-C6301050DF38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9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长、教师、医务人员密切配合，尽可能寻找并去除致病诱因，减轻患儿精神负担，减少不良刺激，发现优点及时表扬，增强其自信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用药护理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需要药物治疗的患儿应指导用药方法，并注意对药物的疗效及副作用进行监测。以精神兴奋剂最为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C1E8-6582-4322-A8D0-F99F43FF7D68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1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2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仔细询问产前、产时及产后是否存在导致轻度脑损害的因素，评估患儿生活及居住环境，了解患儿父母的行为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意障碍、多动、情绪冲动、学习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及家长的心理状态。家长及周围人群往往对患儿产生厌烦心理，加上周围人群的歧视，会导致患儿失去自信心，产生自悲心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7" name=""/>
          <p:cNvSpPr txBox="1"/>
          <p:nvPr/>
        </p:nvSpPr>
        <p:spPr>
          <a:xfrm>
            <a:off x="395280" y="1699920"/>
            <a:ext cx="8352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及正常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脑脊液成分与成人相同，为无色碱性液体，内含蛋白质、糖、淋巴细胞和盐类物质，其比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小儿脑脊液随着年龄的增长和脑室的发育逐渐增加，新生儿脑积液的量少、压力低，故抽取脑脊液较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543B-81B8-4EBA-BD46-795A5996B057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0597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思维紊乱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注意力不集中、活动过度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常有攻击破坏行为和学习成绩落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社会交往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任性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外伤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多动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BB5F-29FC-4EA7-9015-B0EF6ED48BF9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8" name="矩形 1"/>
          <p:cNvSpPr/>
          <p:nvPr/>
        </p:nvSpPr>
        <p:spPr>
          <a:xfrm>
            <a:off x="264960" y="1219320"/>
            <a:ext cx="84614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常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其参与文体活动，以释放多余精力并训练其注意力，同时增强其自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患儿制定简单可行的生活制度，循序渐进地培养其注意力和控制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针对其特点合理安排课程和学习计划，改进学习方法，提高学习成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指导患儿及家长采用专业的行为矫正治疗，矫正患儿的多动和冲动，提高其学习能力和社会交往能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607D-697B-4695-A52D-6A3CFD7953D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1" name="矩形 1"/>
          <p:cNvSpPr/>
          <p:nvPr/>
        </p:nvSpPr>
        <p:spPr>
          <a:xfrm>
            <a:off x="407880" y="1557360"/>
            <a:ext cx="848196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向患儿及家长介绍本病的相关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解释药物治疗同时加强教育及心理护理的重要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同情、关心爱护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有不良习惯和学习困难的患儿，不断增强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于患儿的一些攻击性和破坏性行为要严加制止，但应注意方式方法，保护患儿的自尊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庭、学校、社会应协调一致，以取得最佳的教育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6:56:19Z</dcterms:modified>
  <cp:revision>2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